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26.jpeg" ContentType="image/jpeg"/>
  <Override PartName="/ppt/media/image19.png" ContentType="image/png"/>
  <Override PartName="/ppt/media/type.wav" ContentType="audio/x-wav"/>
  <Override PartName="/ppt/media/image25.gif" ContentType="image/gif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23.gif" ContentType="image/gif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0.wmf" ContentType="image/x-wmf"/>
  <Override PartName="/ppt/media/image29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40.png" ContentType="image/png"/>
  <Override PartName="/ppt/media/image42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50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51.png" ContentType="image/png"/>
  <Override PartName="/ppt/media/%E8%B4%9D%E5%A4%9A%E8%8A%AC%E3%80%81%E8%BD%BB%E9%9F%B3%E4%B9%90%E9%92%A2%E7%90%B4%E6%9B%B2%20-%20%E8%87%B4%E7%88%B1%E4%B8%BD%E4%B8%9D.wav" ContentType="audio/x-wav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  <p:sldId id="283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slide" Target="slides/slide28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6A8-5E5D-4957-B881-3AB8D451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D96-127B-4A21-A907-C2921480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FEAB1-C0CD-4678-9DD9-4AA7AC3C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6464E-2BC4-4265-A276-BC17E59C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DC43D-AFC2-4EFD-8EB4-CBB38628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D2243-97D8-4EDB-A60E-D4C37B3D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A3472-0A7B-46DF-A505-F194A6B6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F79FC-DAFA-4812-8C94-B5359F6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2B390-2AB3-4041-9FF7-4CF1C54E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7F50F-18A1-418B-8937-C0DAF149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011D9-4235-4E67-BB70-6071CC9F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AFD59-61E6-49A1-AA50-31FA2B48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982-C54E-43F0-B8C4-45ED0279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73B38-046F-4EC5-850A-BADACE6D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11EA2-DD3A-4D0B-A7A9-21EDD454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D4BEF-02EC-49EC-B03E-DE635D7E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F4681-2E1C-4CAA-B8BD-E26CBF19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EB3EA-51C9-4C26-A38F-8BD52A8B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378FA-478C-4F7A-8EA6-1C1CBC3D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D5257-50CC-41A6-9E61-0E6689BD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F7862-EE63-4A82-945A-5C8B8C72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8AE8E-1285-4EAB-A49B-CDB8B3C8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D7B23-2FF1-4E1C-94C8-2B96E159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562-1C3B-4728-B634-C938CFC6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94279-BB7C-46BA-8B85-D60D8E20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C7273-B6E4-43F7-BB3D-0CC884D5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A6898-5876-4246-865A-1285DA07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C8A66-2827-4454-A0FF-F108BF69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3563B-6A3F-49DA-BC1C-22422683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A0EE6-6F48-42EC-B42A-17C811F3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C5AD9-85A2-4114-A5FF-CCE74D58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FB1E3-E296-4583-BEE0-41C45461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4F067-CAAF-4135-B8D4-5E5A93DE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1B75F-7862-4C6D-8086-0D092E74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0D3F-E9F3-4D06-AF57-A1D890EC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E9FC1-90F7-4F0C-87CF-740A2402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7BC27-87BD-4F56-B84E-4A260993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B359F-C296-49D9-A71B-71CFBC2A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6A5B3-3D64-487C-BC46-E9048160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EAADD-34B1-43C8-81AE-2E3A013B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D49E4-78FA-442F-8322-C7BAFCDB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46905-C3F2-46B7-90DC-97D654EB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E77C4-ECF1-4822-B273-196ADD79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C3201-FC2F-4991-AB81-59F6906F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42F0E-8750-435A-9F02-216E77B2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2CED-CFDC-4227-936A-6ED3E68A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B185D-0B56-420F-983B-CAED476C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5686C-9CA5-4A0A-A8DF-6C54BABD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D683D-FC43-4DDC-A4FF-A96A2106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6A5D0-2986-4A2B-B89D-C56F608D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4DA75-0406-47B7-9BEB-76C449AF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52666-D542-4965-9B79-558C8D52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87C5D-89F9-42C3-A957-2ED036D0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1BEC0-4519-49CA-B589-CEE9C45A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D1F46-6032-45FA-890B-0C212F31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7D206-473E-4947-B266-1DAB7BF0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572C-A0EC-45D7-986B-FB11F9DE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B8959-5EA4-41C6-908E-86DF4239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63063-5775-4599-B5A0-C681036E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D32F1-72E9-4C70-95CE-5354C852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4796C-51D2-440E-8DDF-E3521AE2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74E4A-4580-4BFF-93C4-B271C865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32A81-83E6-4A8C-AA8B-1FFD9322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A0897-406F-4C57-8734-B3D13FC9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111BA-093C-42E7-A1B6-981E7687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938D6-6375-4ED9-B2A2-918AEB8E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CA957-C455-4781-ACC2-5A944E56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FF56-6A38-41BF-AE35-D6C0620E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F031B-7367-406F-9B9E-38996398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5068D-0195-4153-A4E5-AB888635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9928F-73E0-4BF6-995B-1A9EB314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CB3AC-085B-4523-ADFF-6C1D87EC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42F70-7A6F-4B43-ACDA-08578DBF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22B5B-7C78-4445-B2F3-4ECF3A4C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2C471-6D9B-43A7-8A4C-1526A952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A0D32-A3D9-45D2-A48F-0B04150F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634C8-095A-4664-A634-6BEA77D5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8BA502-6715-4601-AFCF-3B0F4737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073E-EA18-42A7-B299-F292CC6B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4A0E9-F4D3-4DDF-93EE-2F272C88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91FDB-717C-40CC-B434-688E6438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85A6C-F62F-4F04-808C-38A5C013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A5E3F-6CAE-4286-A531-01A7B2C4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58EA8-9584-49AB-B51A-C0977CB3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EF23A-5D52-4D82-90B3-C4A95BE7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26557-4DC0-4C6F-90A7-23E57B1F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3282B-CBE0-481B-B348-FBBC2C7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6DC19-5E5C-4E8F-BF4E-4902E231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F6F2E-8CFF-4D74-8AF4-8B2A6A63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6C32-8816-4484-834D-4DA308F0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5EF57-E9D3-4028-8CC4-DBB4A94A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63A7B-1807-4FA5-99B1-AF9C07F1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4F9CCF-FE5E-4F8C-948A-7725BA37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F06459-7FF6-4AF7-B0F1-4F65ADA3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E7078-370E-464B-84E8-FD175707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D23BA-1240-4AC7-87D5-C5935807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FA74A-C5F0-4823-9C9B-7D7F2510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B9ADA-FFF5-4064-B7F0-2E9C5DB6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5A282-4AC0-443A-9E87-DE6C5ED5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EF492C-CF96-42D0-A9EE-DE4B0E96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1310-FF16-45B9-87A5-D93EFE2D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B7AF9E-DDA3-44E2-B66E-7F4D702F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A32FE1-335D-4109-BA05-0928BF6A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1D70E-6E65-4722-9E36-FCADD3D5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946D0-DEC3-436E-BF82-BAB1B113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29DB1-929B-4AEE-B0FE-FD4DA7F5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31E95-6A04-428F-B048-B8528C88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69C82E-17B5-4539-98D5-50E38E83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53F21D-673C-485F-82F0-1115427E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C42A7-4929-475E-9FEC-72FE50F3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B05ED-BA48-442C-A0E4-F561308E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D56-B062-4463-8408-77BBAA98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D23D-821F-47E4-AFDD-FB80E4F1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74790-05D1-47A3-A3DA-3C16E77C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A6E59-3616-4863-AC14-421BDD36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F2D76-C9D1-46C1-BD41-1882A6A4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ED389-38B5-4D5E-9150-8A3D8E0D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E85C55-AD49-4EEE-B090-C3F5F9C1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46B478-8988-480C-8CE2-DAD7BA19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942BB-17C3-42E7-AE5C-985BC5FF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D7C96C-B7DD-41BF-9C03-5549995B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E209FB-5F34-4D86-A95D-14BA917B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7CC6F-4A62-4346-8DF8-A43F7280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250E-5B86-4B59-95DF-E8535A53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0B1E61-2DCB-48CC-835E-99B3EE1D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27CF96-DB37-4276-8AC6-FFBC990C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C22B93-96AF-4E92-AF8D-CDE97E9C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D2240-19B7-489E-B67E-B75D0A5F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47BF04-9EB1-4756-9ACE-AE950589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AA1B8C-03B3-471F-82C6-A357CC36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6BF53-537D-40D1-821A-AA746B15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005E2B-4F78-4EFE-98EA-38526B3E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ED443-D70E-41BB-ACB1-3E331271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C0CBA-0D6B-4A2B-9B1E-8E0E4F0B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7C55-1691-4E55-AB44-7FE9E60B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26D902-F128-4E0C-A49D-928A6820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F9D453-D454-496A-B5F1-AFEB91FB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1FF0E-952D-40C2-BD42-A64C2731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6CC850-DAD9-4608-BB8A-36EAEEE4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11A6D9-EA9C-4ABE-A58E-F53AE472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D25BDD-DF9C-4F80-AAD5-8CC1DFA9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5F44FA-CA36-4928-881E-2DB71A54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F8EC52-FA4F-4F36-BF99-9BF4ABFF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133A0E-A401-4A71-A56E-661C6EF3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4F4C74-F186-4DBA-B7CE-F09AB837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D591-4D7F-4A17-BD1D-95CA47F4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4799E2-8CFF-4B51-B333-FC5DF4B1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4EF1FE-4625-412C-B451-5F57AEAE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A3A03A-1251-4D97-992C-8A939F72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AF18C-C9FB-46F9-A3E1-A24838DA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430A67-12D2-40BB-A421-39F69267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7B1E92-86EE-4EE1-A659-01292461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786135-C236-4029-BC17-691B0FB9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822D38-7EB6-4026-9530-4FB9CE26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FFBE7-3471-4C16-A497-7EB08B0E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B3C6A9-470E-48BF-93FD-99A982DD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26C4-C4FE-4ADB-9D7E-B12F3FC1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458E78-DE8E-4D43-B13F-F36E1BB8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CA91A8-9441-485E-88C1-6978F257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9209A9-2B91-4FFA-861C-3FA0457B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C650CC-F661-4919-B582-A13D1460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99CB55-5052-4BE7-8899-DA78E0FB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6AB123-1645-4CB6-AAE2-F42715FF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F7D6F-256C-4660-A34F-9009FE98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9126E8-4B77-4602-8864-B66C8AD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238A99-5326-49A1-941A-2A9B60F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E92C54-917D-4287-A84A-3E8213EC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E787-9F94-42D0-BA87-9970631D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DC12BB-E39D-4198-80E6-7F828842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4B8E18-EC34-4EA9-B73A-685411E1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801349-1613-4AB0-9411-BF10553D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CCD9CF-8630-4C33-8785-994EB3E4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A6D0F3-74CD-47D1-9DEC-BAE56F0B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D06E62-F471-42A9-A9DD-7DD830DD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6D23CC-5AE3-4797-8C0C-F70107B0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1C9B59-BF15-4B23-8D51-861A31B9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44DB23-46F9-4F89-B097-FF667112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DE279E-7162-436E-A8FC-21644141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EF8E-5A7E-4EFE-8181-54ECBD67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EC0885-5DEA-48E0-AB87-16973364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F61D37-DB4F-48D9-8EA6-21036EAB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2F4A40-53C5-4528-B519-A1AAE96D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E19651-661E-4985-9E16-79ECAF42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BB23D9-3BA5-4EBC-A201-6D98D5D9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70E736-86BB-41FC-AA20-20A133C4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D06CD2-D8C9-4180-8C26-98A0382B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F7E5C5-F6B0-448A-B523-5BEB69A2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FF1965-0393-45A1-97E6-6A888E41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C4537B-EE02-4EE0-B406-BAB61AAE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412AF-64AA-41DE-B4CC-36E80D22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6DB760-AF30-49AD-98B3-469F9AC3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CC7D96-2603-4D23-A664-A4D7CEBA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C11CDE-BE57-4B4F-A8C9-3AA9E20E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353CE1-A676-4A38-BEB2-0F94E6F5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53469B-CFE7-4462-A3C1-A9C39B70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544106-4921-43E3-B8B2-F312AA55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E5E4ED-09D9-401B-B390-D6E53105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02E8C7-C582-43A1-8B35-74B5604E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21E4F1-FEB6-4868-99AE-1E789AF6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388309-4BDE-4AE4-87E9-7DE84C16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A8A7-07FF-4EE2-8401-62C5D01B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301425-8129-4790-A624-FFD84657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2CD5C5-CF39-4C31-B5F3-3E7FAACE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FBE611-A288-49E7-8D45-EAAD5974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5E7597-2981-4078-AB5A-883E4AA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98B223-58DD-46EB-9BC1-12E9C237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3E2F41-57D2-43DF-99D6-9904D475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545ABB-4F35-4C1C-B76B-81A61D96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8E59F0-C3EC-47EE-8B5D-F648FE40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D10221-001D-45CE-B355-EC3C520A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4FC2DA-F909-4A16-95F1-FE469224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4A52-9FD9-4814-A865-6CC3F4D2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2EE94B-D297-4D5E-99D7-3AC5491D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9D5F53-C249-45E3-A4C4-E7372CF4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FE62BE-E7F6-4D54-BA1C-D9A615A1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9D4C70-0EDC-4BB2-BA0E-D3A58165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666D35-CD33-4C9A-AD9B-E1BB22A4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66E2ED-B827-42D9-A24B-866883EE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E8B13B-7D43-457C-A24F-4DD5A52E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97DCB8-6D63-4F43-B4E1-7C0D7F7F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B76A6B-5EBE-4552-943C-3FD7407C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282855-C7BA-4377-890D-2964936D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E5C-0095-46D1-B05F-47D1167C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7EB4-B4C7-4C16-B0AA-A8E0B549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0D492B-A7EC-4ADA-B270-35E66C4C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6CEB37-4B19-49D6-81C9-0B80A9ED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1AD6EE-A981-4BFE-BD36-CDCE968B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B83585-4039-4981-85F0-0536CCDC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2CFCAE-5328-4B42-8FCC-03A156D6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AFE051-A772-455E-8A60-03EB4945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687328-4476-4736-931D-4A3857F0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5D4D94-CD9F-4876-A251-0EE43083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75EE29-2396-4600-8753-97B7C051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917F1D-8986-4367-8FA2-A4F289B6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EFBDF-FFCD-4B7E-BB67-B71FC515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479969-FF05-439A-B8FD-DBF60623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5E3957-A1AF-45A8-9641-21D0720F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D851EE-3B7A-468B-B66E-2AFF7A52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C7FA59-9474-4DF7-B981-627F73F1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BA6C5C-733D-40D1-A094-30E02A83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F51BB9-2154-4857-85CA-67EE847C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3FB65F-96A5-4DB0-BE35-5927651D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13C643-E52D-49A0-AE9E-7304464C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083284-3EE3-41A9-91A0-38B43C89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8D81C3-E25B-438F-99CD-BA3CC1D4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5C0C-8B55-41CC-865C-C76EA295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CEEE83-D7C0-4B05-8514-4899B2B9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19E8E7-9A69-4165-9A49-7D1FA531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57D593-3D43-406D-8C42-4DCFB72D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BB48AE-88F3-453B-90E9-DF9CDBFC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E745E8-B2C3-4659-AEA0-63031F76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29E519-F304-4E18-B842-1DEAAB7C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93BF7D-F428-47C8-8C90-48DC2E46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A4BA41-E639-4E99-9213-D1855D96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C8F427-BBB3-480C-888B-AC48F986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4879E5-BE5E-4198-A0EA-3EB147A9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39F0B-D48E-4BF2-A6CD-102B7AD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FEF3DB-C3C5-445A-9E05-E984C498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3B1FB5-3E9D-433D-BABE-75968DB3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E88ACA-751B-4C24-BDFA-58F94B91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066988-88E6-4612-B120-171E73DE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6B9019-58CB-4007-AEC3-7F46854E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8F4B1D-6336-4AA6-97A4-035EFBE1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C4FA76-6BA0-4AC3-9AB0-5F738AEC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F5B7A8-7B32-44F7-830B-83A12568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F9AE4A-3851-43F6-9CB0-20D73F28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E263B7-4EA0-45A2-AE2C-C5A25050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8090-8096-41EA-BD61-4CE438CB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897BE6-3BA2-4213-991B-0455CD6A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229082-74FE-4D1A-8213-5AA710FB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E20E2E-F0C5-4FA6-BBBA-22F9E732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7A357E-1A64-42F4-B788-5BF95A01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ED4E25-08ED-4583-A85D-03B6F70F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874D2D-2893-4180-B742-AE3440AA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694F9D-696B-496A-B6B1-C1DF46DE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929025-1E92-412A-A2F6-857E3FF8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DC8FC9-2C1F-4553-B76E-F369AB05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FC6405-E84A-4AF8-AEA4-F99E700F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8B0EC-DB4B-435D-AC82-EBE946A2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81C754-E6B7-418B-AA75-B2DA02B8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47B173-0429-4F6D-9E39-8A1BBE1E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49E0B2-5F6E-4C10-832A-D6002C3C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D658D7-2D6C-4DAB-96F5-BFF62A3B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B7FACE-BF6F-46F0-8B9A-548971D6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D1A944-4D48-4816-8048-AD436359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75CC6B-6CD4-4B70-9AB9-70528E92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44D97E-DBF8-4403-B58C-D576A7C9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6EC1D8-7EAA-4447-9F0B-18D59FCE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BC9A82-28C5-4E9A-B538-FB3E1383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B6A4-538A-447E-8075-CF0C0E65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59D760-A6F2-44D2-BAD9-991C9CAB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ADF420-DAFF-430A-88AF-7397BB34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3BAC7A-6B63-47BC-98C5-5BE0312C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8E9B4E-26D8-48E7-9ECD-0DB26BF2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AC5C2F-59E9-48BF-85DA-5A95E7C6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5C544B-8AEF-4CDD-8298-0D03634E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DA68E6-B7BC-4488-A476-714B6ABC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B58CE8-DBFF-44C1-B873-6DA85467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C04EFE-857B-4545-B3FC-43BDEDDE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CADEB6-D3A5-445B-85B2-2DBCD548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12A4-A7BE-4834-969B-FD8CA90F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1B73F6-86BA-40DB-ACD6-1C53AFDE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06196E-71E4-462D-9D70-33B11548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6A8314-EC21-461A-8CB1-D3FDFE40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933424-9785-4BE2-A47A-BC2D54D9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DF8B3A-517B-4CD4-8B74-B007CE41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92DFDB-F2E5-4F71-9F59-6367F586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D762AD-A88E-4B76-B4DD-A9A77B93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05F49D-03AF-4217-A396-2769ED59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EDCD58-7DCE-41BB-B8B5-D1664003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427B48-FDB5-4D44-8394-22013BB7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A808-1B08-465A-824A-38CF18DB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405A13-5962-44FD-8E42-A5793E4F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12000D-CA44-4BD5-8F0C-11AFBFD5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DEB83C-EFF9-4144-9FE6-182D3675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876EF5-97A1-42FC-8984-1A6C2A28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67A792-D7E4-45DF-95E6-01DCDD10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A614CA-A4A6-4A5A-9CAC-BF3EB1DE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FA71AB-1292-41C4-BFCF-926B5B5B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E84B43-A1A3-4D59-ADD5-FCD1926C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6A8703-7A76-41AA-93E2-C086138A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836F51-E116-4507-87DD-23824A80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A5862-DF95-4B82-8878-810F8C24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390F30-717E-4A0B-82E7-ACF0CB3D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1D9E32-0DCB-4640-8DAB-038B082C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72A879-47D9-4A53-A827-3A269900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8B4265-BFE8-4D95-9125-CBAEACB0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A78F11-6E61-4FA1-8016-8E773FA7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4640A1-470C-4001-89C4-8B2E8F30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44FB70-D985-48E3-AEE4-F90CBAA4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623183-EC1B-46CF-B689-9E2DBBB4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00D563-4A76-458B-9284-B62FF0F2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8CB4F1-E17A-4DD2-8367-F2934275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245-64BC-4931-B82B-E8724EED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215C-7716-4755-ACF2-4B31A22A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DCCB75-F765-4FB3-83F2-78334EB3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F03F0C-9656-4EE1-9515-9FA3FB0B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DAAEDA-CFA8-4424-AB28-675AF18B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EA8C87-154E-402C-B1E0-1ABCC7D5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7712CE-06AF-42C9-AE11-22F5AF43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1019D4-B481-422C-95CE-C49B2029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1FA3A5-C935-48F1-99B3-F05D3010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89ACD0-039B-4E5D-835A-A8EBBB81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82DA9A-E549-4B0B-AE61-16C635E6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465E7C-D26F-4EB0-8F65-E55DD6AA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73FC5-CCC4-4ED2-B91C-E8663D92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53CD32-B09E-45FB-A818-6D1ECB3D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46A7BF-04FA-4CE3-A9AC-2B0442C1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0D31B9-457F-464F-A09E-D1C5FAFA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F43730-CAE7-44C0-8F1A-05B20BFB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E9A4A5-8579-462F-96F4-11129197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442BB4-AEB5-4EA8-A243-6077D61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A51FD2-2EB1-4C45-9935-A2FF9DFD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02B9EA-8E3B-409F-BE51-2DF231CF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4A1EB3-ACD5-4EB1-B6AE-C9C898E5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D0B415-AA30-4375-A44D-17BC417A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26B0-EBC5-4A36-BA29-0B30B41D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E9125C-3A9E-405B-92A3-BAE9F24C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B87B13-8EEB-4E3A-8E97-6E61966D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09C6F7-7F0B-4D6C-9573-A0616F2B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5F643B-1709-42B7-8165-E9D23A7B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4769DA-D6E3-4A72-A4C3-C4B84E4E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6E44B4-F82E-4702-B924-2C1E44F6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0A1954-86DC-492D-8169-76246A31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71E4EE-0A85-44F1-998D-AE794366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DAEE32-AAC1-4681-AE24-F76AF534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63AB26-85C0-4817-AB92-1AB777B0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2B2A3-CF5F-467D-89FB-EBE477EB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071718-B2F6-471F-A62D-85661D58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8959D4-07FF-41B4-B5B5-321FEB6E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28F0D8-3A28-4FD5-8BF3-DB6AC7AA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30A909-4A81-4B6B-9358-1B7E08B0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023C2F-D949-462E-8E87-1E7A3E57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09F42C-C8CA-4780-A58A-00F2300B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A24771-4C86-47C7-9ADF-F5B7AB5A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BFEA5D-1F1E-43FD-979D-A97F6E25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B84D17-89C6-4F91-9F18-325184DD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26C5F18-99DB-472D-A6EB-4DFEBBCE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FBE6D-823D-49C6-90A2-F90F8EDC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911445-333A-496B-816B-25FDD008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67E346-1B74-4300-AE98-3428B4AF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D9C7DE-0785-4097-B2DE-98D02850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E887A6-FE01-47B5-B242-705B34C3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8200C8-2FEF-4E57-9300-EB8CE11A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12A508-6DC6-49C7-A818-094AE3E3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167CA6-FFC5-48FA-8B20-BBE5407B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89C776-E705-4E40-B341-1F6D31C1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AFFC04-BEAB-4B58-8F4A-632D2A32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C0D857-8A6E-407D-AE2D-6E06266A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6FF6-C1AA-454E-9228-35B13D6C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F262930-FB4E-4C29-B069-0E7406A8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DCC456-7A45-4431-BBB0-98F739B6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1F8A61F-2A93-4DF0-839E-925ABBC4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67E5C0-3DCF-405F-BFB7-FEB94B62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0A43F1-528D-4B48-831A-D093604D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2F9C415-5EEE-439A-B7C0-19D123B4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04273C8-94F2-49D1-95ED-AE9A2998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8AE30E-E8A9-4009-AAF7-5418158F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47A001-B16D-4320-8F81-0B821648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E7816D-43DE-4222-A2C4-88C9545B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D5F3F-4CA9-4090-A293-F0FBEBDA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51E2B72-61DD-450F-8EB5-B68A1550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B87214-8F1A-4D97-A57E-2DE7E0B5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6174C24-F3F5-4505-B1F0-E19D7641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CAB10F-C896-41BF-BD11-02667D23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E754BB-71AF-44DB-95C4-E7725A16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D1534D0-25A7-4F29-A91C-4202773A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3CDB037-E359-4AF7-88E8-6559C421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7316E2-4818-42D7-AD81-A8106E37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9B994B6-270F-4D6B-AAA1-EB99DF7C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6ECD3A-ECAA-40EE-9481-B3577465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E90C-947C-4CF9-AC88-1AE59B8A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544761-A207-4EA4-B7B5-51BFF660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79D1E27-F357-49E0-914C-82439E8E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F388C7F-74ED-491F-950F-90B4805B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B94AF77-8A03-4EF2-9B17-007E1FE1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2E155C-CB67-4038-8902-EDDE0878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DDB896-38FF-43FA-AD20-9F5B5E42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9323C8-BFB1-4C38-A3EF-6C6383C2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5B32205-71F2-4163-B02D-43E33DD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784BE2-6030-4F10-B81D-BC5A0CAA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58CD5E2-2DB3-4613-B4B9-84AEFC51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185B-2996-4BD9-A545-FE97EFF8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10992E-E72A-4DD1-9895-5CDDBB32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F2EB08-68FE-44E4-9C54-C7EA3764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2715D2-67DB-4D46-B991-ACA6870E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4844B61-47DE-4A5B-82DC-6B9792FC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01F171C-7C02-4352-A633-47403AEB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B084C6E-C119-4F63-8225-E18DDA94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115F4C-4D37-4B75-A21B-50F7F976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8CF0BC-8A2E-41C8-8C42-7D625BF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5E4DF37-040D-43FA-8BCA-7868CB79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5BF597B-BAA2-4508-AA61-6130FA7E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19FB3-3C21-4F5F-9F9B-B7B5B8BD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3BF640C-AE7F-4F89-88AD-510E9F3D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56C4E9-F90A-42E6-B0AA-067E1E5A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2F04B68-D4EA-450E-A7EE-00A18E6E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7133C13-2C97-4C7D-AE60-0C4342FC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3C299C8-895C-43FF-90BC-43B3BEC1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FD7EC3-725B-4A8F-92B0-66030F0C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A64911-1D10-4927-BD26-26698C07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70BD0B-2B23-4135-9FF8-9516B30D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604EEC3-180B-4784-9F35-A0C0D151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0160BC0-EB19-46C1-9317-E3EC7DE0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F12-B4C3-4A96-A54A-99210065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81AFC-4944-46BE-A88E-B1E5289F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0B80D7-F70E-4F82-8295-47B728B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A5B3526-DCB2-4938-BEE1-708DECC7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F82CA29-6E6E-48B7-928E-04373EB2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3CCC06-57C6-482D-8569-00CE6533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BE4B639-10F0-40B5-835F-81A9C452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4FE490E-6951-4CC3-870E-9A31C4DB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8D549E-1408-40EA-8266-D790857D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14F5A4-DEDD-4E88-948F-AAEDCAA3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4657E3-064E-40D2-9C5B-FE6FB998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E919C8F-A0F4-44E0-8431-16E9E392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5074-9957-447F-A843-2E1D9143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B177ED3-C636-41BB-83FC-1A55D4DB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0709DFE-25E7-4F6A-8088-55953617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3462D4-7AF3-41EB-9742-F556524A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F60D231-5EDD-4410-9638-32ABFB67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622A641-8B04-4EAE-A2E8-176B984F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8E0E46B-C9F5-402C-B91B-0885CDD6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BD835C2-AE8F-4C2E-9CBA-7F71B077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8C2D40-FDFB-4A2E-9645-3C6FFBE2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101F1D-567E-47F2-B482-6BE42412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F1997C-656D-415A-A5C7-873FB87C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252BF-BB54-475A-B066-9C6A5A86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B9F163-7154-456E-BE73-F0C3C258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C6D3E6-8181-4A5B-AC4A-900FFECA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F45D9F4-BE16-4E97-8EBB-AA43FD94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FABD3A-9B4D-4C9F-BB40-217D6A38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1591717-BDC6-400B-86A6-373CAB2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DEC8EF-BFAE-44F4-826D-5ADE19CE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61F3ED-34A5-4D58-9D5D-F5A3B0B3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93D49F-1F06-49CD-99B3-E89BBE89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E545E9-51F8-4B66-902E-52B7A15E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0B6B462-D393-4610-9940-A6F2267A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5C7CF-0767-479D-B4CC-F482FF82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C3BE317-CE8A-4E50-BB48-AC296B31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E10D7C-DA40-4978-9AA2-3732D828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5CA055D-9853-40F0-88DF-7D73875A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C588E0E-3EF2-4555-9275-B395EA95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A311439-CCD3-479E-B9C5-28F8D13B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CBA8480-5823-41D8-82E3-A7F23176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C0BB217-A1E5-4BF1-B6EB-0CD22184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878DAFB-2C81-4583-9DEC-2FCDEA14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13EEB99-9401-4F28-B8A7-9BA0EA18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7159AB6-16E8-481D-A5F3-FAED8AF6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11479-22C8-42A0-A4EF-1335CF39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B7C9C5F-89F6-4574-AD50-267362C5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B235AA0-0C75-4CE3-8DAF-7FFB7BC6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4FB13DC-CE84-4F33-9F6F-CF0E3F6C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A324DA-DD8A-4FB6-910C-0AA32048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45ECE6-2CB8-4472-93CB-4175199D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EB33F51-1D36-48F3-AB26-F7524C71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6EF9EED-0A08-4AB2-A8EF-589E59FA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DBCA0D5-08DD-468F-BF30-0FC60DA3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E8761C6-7DE4-4ED5-8769-7009848F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A620A45-05C2-4430-B6EC-20D26499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2FBC8-04FC-4D24-861B-9D0910C1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F3EE291-787F-4615-AEDA-F7ADCC6E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72FC364-9ACE-4E0E-A4A3-871C2292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FB46AF0-6D09-4B21-999A-CF105944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0BF8E9B-0731-4F15-AC97-EBD35618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B03B821-17D6-4614-8897-A1850DA6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D6187A-C5D6-41B2-AFC4-D02EAA73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43AEDEB-77ED-4E41-935F-D2B8C294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137F4B-4992-48DF-96CB-99660869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DD8BE1A-4874-44AD-A3CB-CA880607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15BC244-092D-4029-B4E9-B49CA74B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4F9AD-DBE4-4932-AFB0-636FA42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64270B9-F0BA-4BCF-B458-08BAFCB7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AA084E8-D809-4AFE-9316-A18E5838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D82C5FF-9BDF-4ABC-B568-2A3D6EA6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58FB8AE-56F2-4E40-BED5-5B4C1984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6B010C-2939-47F6-82C7-97F7B9A8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259ED88-631C-4AFA-BF59-78FD0D29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5289769-03B1-41E6-9452-7E3C99A4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3B216FF-533A-4760-A076-F37F7EF9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FF8CD61-DF6D-4E96-81D2-49694E01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089053-9813-43E0-A0A9-A575E2C9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AFFF2-B7CD-451D-9116-9814471D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69527E-6BFA-46D2-8B20-C06FF3CE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9BB78D0-70B2-4453-B4D8-99950A56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AB81AB-7DA9-4D0B-939F-661954F3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744CA6-A183-468E-B53E-1A7BF6ED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C3206F2-2A9D-4AF7-AA0D-5014795A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0427F1-9B42-4B47-A067-61138A7E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777050E-367A-4368-98F0-8945706C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C44BDCA-8A02-4D57-96AA-5DD0C45B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78F8641-B1DC-4864-980C-ED5DC025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2E959F5-9462-4798-B9A0-71D01531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E5578-3B48-46D2-B1EC-C06B2362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D89A381-C6A2-4E43-BDC1-9BF0E5D7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919D246-44CA-4109-9C17-B2112415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A4C7993-1211-4756-A19D-FA8C4FD0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D6CB77B-6827-4604-8FEF-18C0B401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1C2665C-DC63-464D-9027-EECCBC6C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A5373FD-A6DA-4485-B4F3-B36404AF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13D0492-3B5A-4BBB-BB41-3AF15FAC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75F2117-6CBF-492A-8EE6-852CA126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5105DC2-80AF-4EFD-BCEF-F9095645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9F9E6FD-53D5-4BE8-B0A8-5E97E124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855F2-51AE-46B9-868A-FEE61F12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E7BEFA2-99CA-4EFD-A0DD-8BA9D757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7A5BD2-00A9-4F67-BFCA-8B6FD23F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E64407-D5CE-41F9-A940-41D9E71A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A4F19C2-CC60-405E-8E4C-D472C3C5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AC25F97-131E-4399-BC9E-B06604C6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B6BBC3C-6474-4D9F-93A2-03E1D34B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6E81742-9BA4-4758-9900-10BC1022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02C2F4F-C055-4155-944C-1116B2BE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885A41B-B10E-4CC3-BDA9-5C3EBD5D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2D35FDC-12F8-47AE-A315-9425F8CB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71F-6915-4995-8520-8265A078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8AB5-C5B3-4581-9E9C-7285B016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24B5087-E4C7-4DCA-8CD3-B2821731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3326A-AD8E-43DD-930A-C4313FCD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A1BA5-A23E-49E4-B020-FFC862ED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774AF-E179-42A4-98B2-284E8C4E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EAE70-723D-4792-A9EE-40C76140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1D4DF-9416-46E8-A687-3EB35624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5A9C8-E03D-4305-8C1C-6C1B8E12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75268-37BB-4AC5-890F-857D2273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B962E-1385-44BB-A737-8FB0EB6A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81DAD-ADBA-4815-9F3B-23878E54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58E-857A-4AAB-8FD8-EC73A976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84177-CFC0-4F51-8314-CF494A5D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4576B-F446-41C7-ABF6-BA4F7F68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149A0-1B56-4722-9A95-CC301612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E766-7D80-4C95-95BF-7117F0ED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D0B9-3323-48E9-B605-FD409173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73FF1-64E5-43CB-9AF2-8A6D6FC4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29D4E-FF46-400D-9995-3294DAEB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1FCDF-F12D-43DC-B8EE-32C18584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0177B-FCB9-4A2A-AC23-07927730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C923D-CCB7-4E46-BB1F-D4B7255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9C3-F077-471B-A3D1-1424D2F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D73A5-725A-4075-9654-822430E4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73D33-8C05-46D2-9EE7-35F6DA84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92663-00C4-4CBC-B9F6-8359C378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67063-4909-43FB-A8B0-7DEB9F90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67121-1877-49AE-91D2-B90C446D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72385-7956-4C36-99EE-F446C8DC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AD2BE-CD8E-4CDF-BCC3-5C3963A5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61573-7EB0-4A5F-97CF-2D4C9AD2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93E6B-44B7-4BFF-AF9A-71E05F5E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D6F0F-89F0-4CB2-BBE6-11DFB91A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4FE-EA0C-4901-924D-2AB89D69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DA3AA-0080-447F-9E95-F05DBB00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BAA70-8EB8-4738-A4D8-275D63F2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A2D6E-06FD-4C73-84CC-E6505EC9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6A044-C08D-475D-A3CE-F13715DE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5017A-0C03-4743-8721-6DE84FED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DCDE1-0D4A-4E03-821B-FAD3CEA6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D581C-951F-442A-8F47-0E86B319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C029B-A0A5-4834-871F-B9215E40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5C407-9B37-494F-9FC2-551E1D23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BCFF9-EA1E-4E01-9AA9-62B9458A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A0B7-500A-4B80-9E4D-4297BCD0B2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C198-9578-45F8-9FFB-EC79F6D480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CB66-87A2-4E23-8D5A-5BF09533C7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EA95-AC7A-4984-9FE4-9E2CCDBB38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5C50-7090-49BC-AF51-BE831D54F0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B6D7-C9BA-4F54-84D2-8B1F64BCE6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5C61-18D6-4670-9AAC-213D49D64D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0DD8-CA15-4E1D-B7B4-3A0550C27D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10E3-CCB6-46FE-BC4C-F10C88BAA4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F8AB-63F7-4EFD-A5AE-AD12800E2A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267E-E138-4CE2-B3AC-ED5D4FB120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EF0B-BA90-4C65-A87F-19CBFEDB4A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8F81-DED8-459C-B5BC-B206D3D20B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0C49-492B-42EB-A472-1D4B521B49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7" descr=""/>
          <p:cNvPicPr/>
          <p:nvPr/>
        </p:nvPicPr>
        <p:blipFill>
          <a:blip r:embed="rId2"/>
          <a:srcRect l="400" t="1911" r="0" b="0"/>
          <a:stretch/>
        </p:blipFill>
        <p:spPr>
          <a:xfrm>
            <a:off x="0" y="0"/>
            <a:ext cx="9142560" cy="68436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232C-53E8-4D66-8107-86F9381CBA21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DA69-7BB3-4304-81EC-8273D8262C1B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5372-20DD-4982-AF58-2D79F44C8A5E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CC91-5D96-4058-A019-CF694EB9CEB1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00A1-6C99-470F-9A1E-06210E7134C8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4AC-E050-4760-9B05-439B83E74186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70DE-7BE8-4453-BD1C-5AF06591E733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A65D-BDFA-4DF5-AF57-B38DD7A3BFF2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0042-D208-4948-AC41-AE3CEACDB29A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CB32-B4B4-4377-9918-C0B00B36DBBE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CC8C-1B8B-4F51-A86A-0EFA4C6793AB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FE94-B64D-4032-B5BF-2B83DBD2FBDA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AEFD-2503-4F1A-A46E-8072280480FB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6795-5E8F-4BF7-A7F5-2621AF028A03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E8B0-C0FF-4815-9197-27E7F94B0045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0C35-BB9E-4815-8188-549B0F71415B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7B1F-A5CD-4E84-B122-7AD50533C819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648B-2AB9-47A1-8648-755AE3FDFE81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6AEF-C2F7-4542-8ACE-4D27086E3BC3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1861-7831-4FE9-ABA5-9FDE1B3947CA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60EC-5C20-4336-B9E3-6985A3E340E6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CD45-63CE-4E4D-8FFF-78704DF7F28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5DF7-416D-4837-A152-13FA694BB57D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C49F-51A5-44C7-89A1-6B2B14C2787A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08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8DAC-F492-4DFF-A3E9-AD7B59D79E03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8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8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D798-B953-4EF9-BD1C-AB00D2685FE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8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FE1F-2FDD-43C9-B582-C3C0B4616928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8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8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60AC-3257-495F-A3CA-ECA8F46B5D3A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7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5F36-231D-49C1-B7E6-6CC143F05BA8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E14E-F928-4999-B2D8-9E3E35C1F99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FDBB-3491-4AE8-89C8-B11A574A8F68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CA26-D8AE-42F8-9630-3E1FBAC85FB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88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850A-A1B4-4CC8-A2EC-652A49A13EE5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89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90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8275-FFF0-40F9-8CAE-6A6F885E92E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91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2D54-1BA7-4C34-B522-173DFBC720E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92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93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ED16-70EB-41AF-BBE7-A204EE18C7B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4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51F0-BBAF-4DD5-B3DE-E9C6313FEEE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5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6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95B6-AFF3-48F9-95EE-FA1F9010639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E2ED-D280-432D-AEC1-3AEA97EC7D1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9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5400-0A20-42F8-82AA-5F7E746EC3D2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9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F9E0-807C-4D90-8B82-D8C90240D765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78EF-BBCF-4431-9679-A40D6F68AB8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76C8-14AD-467C-847E-15F94E2B3A20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87C7-D2FE-4A52-943C-2B358B60F30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106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2856-4675-4AA5-BFB5-F8D2166A1472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107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5111-7548-4C1C-8C2C-28310C70BBE2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10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1E65-B2FA-4A8D-9D3C-CC406C77E040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11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4427-7BF8-4894-8AEF-C0B5B59E0B8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dt" idx="11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B59A-D5E3-40A9-BCB1-4D64C4949BF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 type="ftr" idx="11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 type="sldNum" idx="11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FA3C-9AFB-46B1-9F34-339C3A9EB13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61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9292-06CC-49EB-AB2D-71662E4FEE4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327D-CFF8-4CA7-96C7-D3A4ABE1CD5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98B4-79BA-4D6B-BA26-147F3D8A6F7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A3E9-288B-4861-9A2A-95D23999122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dt" idx="11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88D0-3848-4ADE-B349-95B16CA6E93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ftr" idx="11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 type="sldNum" idx="12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E4C1-4E22-4123-8A7A-5ADB6894574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0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dt" idx="121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3058-DB3F-49EF-87BB-D70F0855FE60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 type="ftr" idx="122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 type="sldNum" idx="123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8031-5944-4858-94E9-F9F074FB475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 type="dt" idx="124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7E57-281C-4D15-8539-04958B947005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 type="ftr" idx="125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 type="sldNum" idx="126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6F5C-946C-4E67-BE72-F5F8F18985BA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27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6AD3-742F-45EB-9C59-AE11707FB36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28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29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6FB6-FA94-430C-AFBA-B082300C144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3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dt" idx="13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3AE4-495B-4026-BF00-12DD7B99E43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ftr" idx="13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 type="sldNum" idx="13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F5FC-B806-41C9-A733-FB1A201E3407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3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2E86-152A-4045-8BE5-BD25F1B2C15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3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3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7EC7-8E5C-4785-9D58-2BE6D5F499F0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2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36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37AF-79E8-45C7-898B-FA4A3441498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37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38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29B9-15D9-4100-8F20-FEDA0FB9AB7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3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3E96-F802-401D-8474-F6A3A457BFE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4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FA3F-1A8F-4B6D-AEA9-60F24B89962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1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 type="dt" idx="142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2FB7-7607-45AC-A95A-74678564BA10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 type="ftr" idx="143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 type="sldNum" idx="144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31D2-B35E-41D8-9E00-C309E5E2E49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dt" idx="14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99B2-3ADE-42F7-B672-40EDA0CEF93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 type="ftr" idx="14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3AD3-40B9-47A5-8194-A9AAFEBCC8D2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D08E-5183-4117-8800-34D956FC2A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F3ED-AB92-4BE7-AB3A-21DC5E0DAA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 type="dt" idx="14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2451-94D2-46CF-9BD3-241C39AE07E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 type="ftr" idx="14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 type="sldNum" idx="15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9D36-7B20-4BAA-8317-970F04153FA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73B3-81CC-4015-9F60-FCF9798BC6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8ED4-2C8D-4AE4-AAE4-00C0E8E45F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F780-96BB-46B1-90D0-3C1BDE5987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29F0-6F62-4F94-9034-A671FC6A26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F589-EDD7-40D5-AA77-B1546368FC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5FE7-7F2E-45FB-9132-BFCD7AF312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E5F0-61A2-4FF2-AB19-B89AC63AC0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AA08-67D0-4BB1-AC66-35D7A1B53D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5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Picture 44" descr=""/>
          <p:cNvPicPr/>
          <p:nvPr/>
        </p:nvPicPr>
        <p:blipFill>
          <a:blip r:embed="rId1"/>
          <a:stretch/>
        </p:blipFill>
        <p:spPr>
          <a:xfrm>
            <a:off x="2328840" y="2428920"/>
            <a:ext cx="4486320" cy="1571760"/>
          </a:xfrm>
          <a:prstGeom prst="rect">
            <a:avLst/>
          </a:prstGeom>
          <a:ln w="0">
            <a:noFill/>
          </a:ln>
        </p:spPr>
      </p:pic>
      <p:sp>
        <p:nvSpPr>
          <p:cNvPr id="2143" name="Text Box 4"/>
          <p:cNvSpPr/>
          <p:nvPr/>
        </p:nvSpPr>
        <p:spPr>
          <a:xfrm>
            <a:off x="1225440" y="135720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七单元  时、分、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4"/>
          <p:cNvSpPr/>
          <p:nvPr/>
        </p:nvSpPr>
        <p:spPr>
          <a:xfrm>
            <a:off x="1300320" y="492588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成都棠外附小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方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7" name="内容占位符 37895" descr="ANI_023"/>
          <p:cNvPicPr/>
          <p:nvPr/>
        </p:nvPicPr>
        <p:blipFill>
          <a:blip r:embed="rId1"/>
          <a:stretch/>
        </p:blipFill>
        <p:spPr>
          <a:xfrm>
            <a:off x="744480" y="2133720"/>
            <a:ext cx="1743120" cy="2506680"/>
          </a:xfrm>
          <a:prstGeom prst="rect">
            <a:avLst/>
          </a:prstGeom>
          <a:ln w="0">
            <a:noFill/>
          </a:ln>
        </p:spPr>
      </p:pic>
      <p:pic>
        <p:nvPicPr>
          <p:cNvPr id="2358" name="内容占位符 37896" descr=""/>
          <p:cNvPicPr/>
          <p:nvPr/>
        </p:nvPicPr>
        <p:blipFill>
          <a:blip r:embed="rId2"/>
          <a:stretch/>
        </p:blipFill>
        <p:spPr>
          <a:xfrm>
            <a:off x="2940120" y="2413080"/>
            <a:ext cx="2400120" cy="1679400"/>
          </a:xfrm>
          <a:prstGeom prst="rect">
            <a:avLst/>
          </a:prstGeom>
          <a:ln w="0">
            <a:noFill/>
          </a:ln>
        </p:spPr>
      </p:pic>
      <p:pic>
        <p:nvPicPr>
          <p:cNvPr id="2359" name="内容占位符 37897" descr="ANI_022"/>
          <p:cNvPicPr/>
          <p:nvPr/>
        </p:nvPicPr>
        <p:blipFill>
          <a:blip r:embed="rId3"/>
          <a:stretch/>
        </p:blipFill>
        <p:spPr>
          <a:xfrm>
            <a:off x="5794200" y="2763720"/>
            <a:ext cx="2711520" cy="1735200"/>
          </a:xfrm>
          <a:prstGeom prst="rect">
            <a:avLst/>
          </a:prstGeom>
          <a:ln w="0">
            <a:noFill/>
          </a:ln>
        </p:spPr>
      </p:pic>
      <p:sp>
        <p:nvSpPr>
          <p:cNvPr id="2360" name="文本框 37898"/>
          <p:cNvSpPr/>
          <p:nvPr/>
        </p:nvSpPr>
        <p:spPr>
          <a:xfrm>
            <a:off x="1041840" y="51958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文本框 37899"/>
          <p:cNvSpPr/>
          <p:nvPr/>
        </p:nvSpPr>
        <p:spPr>
          <a:xfrm>
            <a:off x="3348360" y="45813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7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文本框 37900"/>
          <p:cNvSpPr/>
          <p:nvPr/>
        </p:nvSpPr>
        <p:spPr>
          <a:xfrm>
            <a:off x="6173640" y="51195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游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3" name="组合 37901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64" name="椭圆 37902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文本框 37903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33847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中央电视台播音员大约可以播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字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7" name="Picture 4" descr="新闻"/>
          <p:cNvPicPr/>
          <p:nvPr/>
        </p:nvPicPr>
        <p:blipFill>
          <a:blip r:embed="rId1"/>
          <a:stretch/>
        </p:blipFill>
        <p:spPr>
          <a:xfrm>
            <a:off x="4500720" y="765000"/>
            <a:ext cx="42624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831680" y="5536800"/>
            <a:ext cx="66056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汽车大约可以跑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</a:t>
            </a:r>
            <a:br>
              <a:rPr sz="3200"/>
            </a:b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9" name="Picture 4" descr="汽车"/>
          <p:cNvPicPr/>
          <p:nvPr/>
        </p:nvPicPr>
        <p:blipFill>
          <a:blip r:embed="rId1"/>
          <a:stretch/>
        </p:blipFill>
        <p:spPr>
          <a:xfrm>
            <a:off x="1579680" y="99684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076360" y="1052280"/>
            <a:ext cx="35290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激光大约可以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千米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71" name="Picture 4" descr="激光"/>
          <p:cNvPicPr/>
          <p:nvPr/>
        </p:nvPicPr>
        <p:blipFill>
          <a:blip r:embed="rId1"/>
          <a:stretch/>
        </p:blipFill>
        <p:spPr>
          <a:xfrm>
            <a:off x="468360" y="134136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Picture 9" descr="u=788106986,66757298&amp;fm=0&amp;gp=0"/>
          <p:cNvPicPr/>
          <p:nvPr/>
        </p:nvPicPr>
        <p:blipFill>
          <a:blip r:embed="rId1"/>
          <a:stretch/>
        </p:blipFill>
        <p:spPr>
          <a:xfrm>
            <a:off x="1501920" y="1089000"/>
            <a:ext cx="5734080" cy="4140360"/>
          </a:xfrm>
          <a:prstGeom prst="rect">
            <a:avLst/>
          </a:prstGeom>
          <a:ln w="0">
            <a:noFill/>
          </a:ln>
        </p:spPr>
      </p:pic>
      <p:sp>
        <p:nvSpPr>
          <p:cNvPr id="2373" name="Rectangle 10"/>
          <p:cNvSpPr/>
          <p:nvPr/>
        </p:nvSpPr>
        <p:spPr>
          <a:xfrm>
            <a:off x="2334240" y="5229360"/>
            <a:ext cx="50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猎豹</a:t>
            </a:r>
            <a:r>
              <a:rPr b="1" lang="en-US" sz="4000" spc="-1" strike="noStrike">
                <a:solidFill>
                  <a:srgbClr val="d72f0d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d72f0d"/>
                </a:solidFill>
                <a:latin typeface="Arial"/>
                <a:ea typeface="宋体"/>
              </a:rPr>
              <a:t>分钟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大约能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Picture 3" descr=""/>
          <p:cNvPicPr/>
          <p:nvPr/>
        </p:nvPicPr>
        <p:blipFill>
          <a:blip r:embed="rId1"/>
          <a:stretch/>
        </p:blipFill>
        <p:spPr>
          <a:xfrm>
            <a:off x="-1440" y="1166760"/>
            <a:ext cx="8883360" cy="41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流程图: 可选过程 34818"/>
          <p:cNvSpPr/>
          <p:nvPr/>
        </p:nvSpPr>
        <p:spPr>
          <a:xfrm>
            <a:off x="5364000" y="2050200"/>
            <a:ext cx="2519640" cy="132876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你可以背诵几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乘法口诀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b4b75c"/>
                </a:solidFill>
                <a:latin typeface="Arial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圆角矩形 34819"/>
          <p:cNvSpPr/>
          <p:nvPr/>
        </p:nvSpPr>
        <p:spPr>
          <a:xfrm>
            <a:off x="4648320" y="2971800"/>
            <a:ext cx="3809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圆角矩形 34820"/>
          <p:cNvSpPr/>
          <p:nvPr/>
        </p:nvSpPr>
        <p:spPr>
          <a:xfrm>
            <a:off x="3886200" y="1676520"/>
            <a:ext cx="48006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8" name="组合 34821"/>
          <p:cNvGrpSpPr/>
          <p:nvPr/>
        </p:nvGrpSpPr>
        <p:grpSpPr>
          <a:xfrm>
            <a:off x="5076720" y="4221000"/>
            <a:ext cx="3342960" cy="1009800"/>
            <a:chOff x="5076720" y="4221000"/>
            <a:chExt cx="3342960" cy="1009800"/>
          </a:xfrm>
        </p:grpSpPr>
        <p:sp>
          <p:nvSpPr>
            <p:cNvPr id="2379" name="圆角矩形 34822"/>
            <p:cNvSpPr/>
            <p:nvPr/>
          </p:nvSpPr>
          <p:spPr>
            <a:xfrm>
              <a:off x="5220000" y="4221000"/>
              <a:ext cx="3199680" cy="100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cffd9"/>
                </a:gs>
                <a:gs pos="100000">
                  <a:srgbClr val="ccff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文本框 34823"/>
            <p:cNvSpPr/>
            <p:nvPr/>
          </p:nvSpPr>
          <p:spPr>
            <a:xfrm>
              <a:off x="5076720" y="4437360"/>
              <a:ext cx="22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你能画几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笑脸 34824"/>
            <p:cNvSpPr/>
            <p:nvPr/>
          </p:nvSpPr>
          <p:spPr>
            <a:xfrm>
              <a:off x="7380000" y="4365720"/>
              <a:ext cx="791640" cy="770400"/>
            </a:xfrm>
            <a:prstGeom prst="smileyFace">
              <a:avLst>
                <a:gd name="adj" fmla="val 4653"/>
              </a:avLst>
            </a:prstGeom>
            <a:solidFill>
              <a:srgbClr val="ffcccc"/>
            </a:solidFill>
            <a:ln w="44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组合 34825"/>
          <p:cNvGrpSpPr/>
          <p:nvPr/>
        </p:nvGrpSpPr>
        <p:grpSpPr>
          <a:xfrm>
            <a:off x="1070280" y="3530160"/>
            <a:ext cx="3688560" cy="2285640"/>
            <a:chOff x="1070280" y="3530160"/>
            <a:chExt cx="3688560" cy="2285640"/>
          </a:xfrm>
        </p:grpSpPr>
        <p:sp>
          <p:nvSpPr>
            <p:cNvPr id="2383" name="爆炸形 2 34826"/>
            <p:cNvSpPr/>
            <p:nvPr/>
          </p:nvSpPr>
          <p:spPr>
            <a:xfrm rot="540000">
              <a:off x="1187280" y="3789360"/>
              <a:ext cx="3454560" cy="1766880"/>
            </a:xfrm>
            <a:prstGeom prst="irregularSeal2">
              <a:avLst/>
            </a:prstGeom>
            <a:gradFill rotWithShape="0">
              <a:gsLst>
                <a:gs pos="0">
                  <a:srgbClr val="fff9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文本框 34827"/>
            <p:cNvSpPr/>
            <p:nvPr/>
          </p:nvSpPr>
          <p:spPr>
            <a:xfrm>
              <a:off x="1556280" y="44496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写几个字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组合 34828"/>
          <p:cNvGrpSpPr/>
          <p:nvPr/>
        </p:nvGrpSpPr>
        <p:grpSpPr>
          <a:xfrm>
            <a:off x="1403280" y="2421000"/>
            <a:ext cx="3313080" cy="790560"/>
            <a:chOff x="1403280" y="2421000"/>
            <a:chExt cx="3313080" cy="790560"/>
          </a:xfrm>
        </p:grpSpPr>
        <p:sp>
          <p:nvSpPr>
            <p:cNvPr id="2386" name="双波形 34829"/>
            <p:cNvSpPr/>
            <p:nvPr/>
          </p:nvSpPr>
          <p:spPr>
            <a:xfrm>
              <a:off x="1403280" y="2421000"/>
              <a:ext cx="3024720" cy="790560"/>
            </a:xfrm>
            <a:custGeom>
              <a:avLst/>
              <a:gdLst>
                <a:gd name="textAreaLeft" fmla="*/ 0 w 3024720"/>
                <a:gd name="textAreaRight" fmla="*/ 3025080 w 3024720"/>
                <a:gd name="textAreaTop" fmla="*/ 102600 h 790560"/>
                <a:gd name="textAreaBottom" fmla="*/ 68796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文本框 34830"/>
            <p:cNvSpPr/>
            <p:nvPr/>
          </p:nvSpPr>
          <p:spPr>
            <a:xfrm>
              <a:off x="1475640" y="2565000"/>
              <a:ext cx="32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数多少个数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组合 34831"/>
          <p:cNvGrpSpPr/>
          <p:nvPr/>
        </p:nvGrpSpPr>
        <p:grpSpPr>
          <a:xfrm>
            <a:off x="971640" y="117360"/>
            <a:ext cx="5587560" cy="1663920"/>
            <a:chOff x="971640" y="117360"/>
            <a:chExt cx="5587560" cy="1663920"/>
          </a:xfrm>
        </p:grpSpPr>
        <p:pic>
          <p:nvPicPr>
            <p:cNvPr id="2389" name="图片 34832" descr="仙女"/>
            <p:cNvPicPr/>
            <p:nvPr/>
          </p:nvPicPr>
          <p:blipFill>
            <a:blip r:embed="rId2"/>
            <a:stretch/>
          </p:blipFill>
          <p:spPr>
            <a:xfrm>
              <a:off x="971640" y="117360"/>
              <a:ext cx="1944360" cy="166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0" name="组合 34833"/>
            <p:cNvGrpSpPr/>
            <p:nvPr/>
          </p:nvGrpSpPr>
          <p:grpSpPr>
            <a:xfrm>
              <a:off x="3046680" y="578520"/>
              <a:ext cx="3512520" cy="791280"/>
              <a:chOff x="3046680" y="578520"/>
              <a:chExt cx="3512520" cy="791280"/>
            </a:xfrm>
          </p:grpSpPr>
          <p:sp>
            <p:nvSpPr>
              <p:cNvPr id="2391" name="云形标注 34834"/>
              <p:cNvSpPr/>
              <p:nvPr/>
            </p:nvSpPr>
            <p:spPr>
              <a:xfrm>
                <a:off x="3046680" y="578520"/>
                <a:ext cx="3512520" cy="791280"/>
              </a:xfrm>
              <a:prstGeom prst="cloudCallout">
                <a:avLst>
                  <a:gd name="adj1" fmla="val -54981"/>
                  <a:gd name="adj2" fmla="val 3075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4b4b4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2" name="矩形 34835" descr=""/>
              <p:cNvPicPr/>
              <p:nvPr/>
            </p:nvPicPr>
            <p:blipFill>
              <a:blip r:embed="rId4"/>
              <a:stretch/>
            </p:blipFill>
            <p:spPr>
              <a:xfrm>
                <a:off x="3519720" y="642240"/>
                <a:ext cx="2754360" cy="59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93" name="轻音乐 - 一帘幽梦 - 古筝_trans.wav" descr=""/>
          <p:cNvPicPr/>
          <p:nvPr/>
        </p:nvPicPr>
        <p:blipFill>
          <a:blip r:embed="rId5"/>
          <a:stretch/>
        </p:blipFill>
        <p:spPr>
          <a:xfrm>
            <a:off x="684360" y="5896080"/>
            <a:ext cx="358560" cy="358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1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61048" fill="hold"/>
                                        <p:tgtEl>
                                          <p:spTgt spid="2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5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6" name="组合 32769"/>
          <p:cNvGrpSpPr/>
          <p:nvPr/>
        </p:nvGrpSpPr>
        <p:grpSpPr>
          <a:xfrm>
            <a:off x="1763640" y="1050840"/>
            <a:ext cx="5522760" cy="5338800"/>
            <a:chOff x="1763640" y="1050840"/>
            <a:chExt cx="5522760" cy="5338800"/>
          </a:xfrm>
        </p:grpSpPr>
        <p:pic>
          <p:nvPicPr>
            <p:cNvPr id="2397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522760" cy="53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直接连接符 32771"/>
            <p:cNvSpPr/>
            <p:nvPr/>
          </p:nvSpPr>
          <p:spPr>
            <a:xfrm flipH="1">
              <a:off x="4263840" y="5822280"/>
              <a:ext cx="756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直接连接符 32772"/>
            <p:cNvSpPr/>
            <p:nvPr/>
          </p:nvSpPr>
          <p:spPr>
            <a:xfrm flipH="1">
              <a:off x="4057200" y="57952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直接连接符 32773"/>
            <p:cNvSpPr/>
            <p:nvPr/>
          </p:nvSpPr>
          <p:spPr>
            <a:xfrm flipH="1">
              <a:off x="3831840" y="574920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直接连接符 32774"/>
            <p:cNvSpPr/>
            <p:nvPr/>
          </p:nvSpPr>
          <p:spPr>
            <a:xfrm flipH="1">
              <a:off x="3628800" y="565992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直接连接符 32775"/>
            <p:cNvSpPr/>
            <p:nvPr/>
          </p:nvSpPr>
          <p:spPr>
            <a:xfrm flipH="1">
              <a:off x="3174120" y="543456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直接连接符 32776"/>
            <p:cNvSpPr/>
            <p:nvPr/>
          </p:nvSpPr>
          <p:spPr>
            <a:xfrm flipH="1">
              <a:off x="3009600" y="53125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直接连接符 32777"/>
            <p:cNvSpPr/>
            <p:nvPr/>
          </p:nvSpPr>
          <p:spPr>
            <a:xfrm flipH="1">
              <a:off x="2811240" y="5144760"/>
              <a:ext cx="58320" cy="42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直接连接符 32778"/>
            <p:cNvSpPr/>
            <p:nvPr/>
          </p:nvSpPr>
          <p:spPr>
            <a:xfrm flipH="1">
              <a:off x="2683440" y="4970160"/>
              <a:ext cx="60120" cy="39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直接连接符 32779"/>
            <p:cNvSpPr/>
            <p:nvPr/>
          </p:nvSpPr>
          <p:spPr>
            <a:xfrm flipH="1">
              <a:off x="2404080" y="45378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直接连接符 32780"/>
            <p:cNvSpPr/>
            <p:nvPr/>
          </p:nvSpPr>
          <p:spPr>
            <a:xfrm flipH="1">
              <a:off x="2325960" y="435564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直接连接符 32781"/>
            <p:cNvSpPr/>
            <p:nvPr/>
          </p:nvSpPr>
          <p:spPr>
            <a:xfrm flipH="1">
              <a:off x="2258640" y="41569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直接连接符 32782"/>
            <p:cNvSpPr/>
            <p:nvPr/>
          </p:nvSpPr>
          <p:spPr>
            <a:xfrm flipH="1">
              <a:off x="2238840" y="39459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直接连接符 32783"/>
            <p:cNvSpPr/>
            <p:nvPr/>
          </p:nvSpPr>
          <p:spPr>
            <a:xfrm flipH="1" flipV="1">
              <a:off x="2229840" y="344088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直接连接符 32784"/>
            <p:cNvSpPr/>
            <p:nvPr/>
          </p:nvSpPr>
          <p:spPr>
            <a:xfrm flipH="1" flipV="1">
              <a:off x="2259000" y="324072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直接连接符 32785"/>
            <p:cNvSpPr/>
            <p:nvPr/>
          </p:nvSpPr>
          <p:spPr>
            <a:xfrm flipH="1" flipV="1">
              <a:off x="2311200" y="302256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直接连接符 32786"/>
            <p:cNvSpPr/>
            <p:nvPr/>
          </p:nvSpPr>
          <p:spPr>
            <a:xfrm flipH="1" flipV="1">
              <a:off x="2404800" y="2826360"/>
              <a:ext cx="6444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直接连接符 32787"/>
            <p:cNvSpPr/>
            <p:nvPr/>
          </p:nvSpPr>
          <p:spPr>
            <a:xfrm flipH="1" flipV="1">
              <a:off x="2667240" y="236772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直接连接符 32788"/>
            <p:cNvSpPr/>
            <p:nvPr/>
          </p:nvSpPr>
          <p:spPr>
            <a:xfrm flipH="1" flipV="1">
              <a:off x="2797200" y="2208960"/>
              <a:ext cx="5472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直接连接符 32789"/>
            <p:cNvSpPr/>
            <p:nvPr/>
          </p:nvSpPr>
          <p:spPr>
            <a:xfrm flipH="1" flipV="1">
              <a:off x="2984400" y="207144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直接连接符 32790"/>
            <p:cNvSpPr/>
            <p:nvPr/>
          </p:nvSpPr>
          <p:spPr>
            <a:xfrm flipH="1" flipV="1">
              <a:off x="3166200" y="1948320"/>
              <a:ext cx="37440" cy="583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直接连接符 32791"/>
            <p:cNvSpPr/>
            <p:nvPr/>
          </p:nvSpPr>
          <p:spPr>
            <a:xfrm flipH="1" flipV="1">
              <a:off x="3619800" y="169560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直接连接符 32792"/>
            <p:cNvSpPr/>
            <p:nvPr/>
          </p:nvSpPr>
          <p:spPr>
            <a:xfrm flipH="1" flipV="1">
              <a:off x="3815280" y="1620720"/>
              <a:ext cx="23040" cy="66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直接连接符 32793"/>
            <p:cNvSpPr/>
            <p:nvPr/>
          </p:nvSpPr>
          <p:spPr>
            <a:xfrm flipH="1" flipV="1">
              <a:off x="4035960" y="155556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直接连接符 32794"/>
            <p:cNvSpPr/>
            <p:nvPr/>
          </p:nvSpPr>
          <p:spPr>
            <a:xfrm flipH="1" flipV="1">
              <a:off x="4256280" y="153648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直接连接符 32795"/>
            <p:cNvSpPr/>
            <p:nvPr/>
          </p:nvSpPr>
          <p:spPr>
            <a:xfrm flipV="1">
              <a:off x="4776840" y="15260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直接连接符 32796"/>
            <p:cNvSpPr/>
            <p:nvPr/>
          </p:nvSpPr>
          <p:spPr>
            <a:xfrm flipV="1">
              <a:off x="4979520" y="15544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直接连接符 32797"/>
            <p:cNvSpPr/>
            <p:nvPr/>
          </p:nvSpPr>
          <p:spPr>
            <a:xfrm flipV="1">
              <a:off x="5190120" y="160452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直接连接符 32798"/>
            <p:cNvSpPr/>
            <p:nvPr/>
          </p:nvSpPr>
          <p:spPr>
            <a:xfrm flipV="1">
              <a:off x="5388120" y="169488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直接连接符 32799"/>
            <p:cNvSpPr/>
            <p:nvPr/>
          </p:nvSpPr>
          <p:spPr>
            <a:xfrm flipV="1">
              <a:off x="5845680" y="1941120"/>
              <a:ext cx="4140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直接连接符 32800"/>
            <p:cNvSpPr/>
            <p:nvPr/>
          </p:nvSpPr>
          <p:spPr>
            <a:xfrm flipV="1">
              <a:off x="6008040" y="20671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直接连接符 32801"/>
            <p:cNvSpPr/>
            <p:nvPr/>
          </p:nvSpPr>
          <p:spPr>
            <a:xfrm flipV="1">
              <a:off x="6136920" y="219384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直接连接符 32802"/>
            <p:cNvSpPr/>
            <p:nvPr/>
          </p:nvSpPr>
          <p:spPr>
            <a:xfrm flipV="1">
              <a:off x="6262560" y="2369160"/>
              <a:ext cx="6012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直接连接符 32803"/>
            <p:cNvSpPr/>
            <p:nvPr/>
          </p:nvSpPr>
          <p:spPr>
            <a:xfrm flipV="1">
              <a:off x="6527520" y="28072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直接连接符 32804"/>
            <p:cNvSpPr/>
            <p:nvPr/>
          </p:nvSpPr>
          <p:spPr>
            <a:xfrm flipV="1">
              <a:off x="6602760" y="299736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直接连接符 32805"/>
            <p:cNvSpPr/>
            <p:nvPr/>
          </p:nvSpPr>
          <p:spPr>
            <a:xfrm flipV="1">
              <a:off x="6666840" y="321120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直接连接符 32806"/>
            <p:cNvSpPr/>
            <p:nvPr/>
          </p:nvSpPr>
          <p:spPr>
            <a:xfrm flipV="1">
              <a:off x="6685920" y="3423960"/>
              <a:ext cx="7200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直接连接符 32807"/>
            <p:cNvSpPr/>
            <p:nvPr/>
          </p:nvSpPr>
          <p:spPr>
            <a:xfrm>
              <a:off x="6687360" y="3929760"/>
              <a:ext cx="7164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直接连接符 32808"/>
            <p:cNvSpPr/>
            <p:nvPr/>
          </p:nvSpPr>
          <p:spPr>
            <a:xfrm>
              <a:off x="6659280" y="4126680"/>
              <a:ext cx="7056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直接连接符 32809"/>
            <p:cNvSpPr/>
            <p:nvPr/>
          </p:nvSpPr>
          <p:spPr>
            <a:xfrm>
              <a:off x="6612120" y="432900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直接连接符 32810"/>
            <p:cNvSpPr/>
            <p:nvPr/>
          </p:nvSpPr>
          <p:spPr>
            <a:xfrm>
              <a:off x="6519960" y="4520520"/>
              <a:ext cx="6372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直接连接符 32811"/>
            <p:cNvSpPr/>
            <p:nvPr/>
          </p:nvSpPr>
          <p:spPr>
            <a:xfrm>
              <a:off x="6256800" y="494064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直接连接符 32812"/>
            <p:cNvSpPr/>
            <p:nvPr/>
          </p:nvSpPr>
          <p:spPr>
            <a:xfrm>
              <a:off x="6130800" y="50979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直接连接符 32813"/>
            <p:cNvSpPr/>
            <p:nvPr/>
          </p:nvSpPr>
          <p:spPr>
            <a:xfrm>
              <a:off x="6013080" y="527652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直接连接符 32814"/>
            <p:cNvSpPr/>
            <p:nvPr/>
          </p:nvSpPr>
          <p:spPr>
            <a:xfrm>
              <a:off x="5833440" y="5397480"/>
              <a:ext cx="3780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直接连接符 32815"/>
            <p:cNvSpPr/>
            <p:nvPr/>
          </p:nvSpPr>
          <p:spPr>
            <a:xfrm>
              <a:off x="5398920" y="5653440"/>
              <a:ext cx="27720" cy="640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直接连接符 32816"/>
            <p:cNvSpPr/>
            <p:nvPr/>
          </p:nvSpPr>
          <p:spPr>
            <a:xfrm>
              <a:off x="5210280" y="572616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直接连接符 32817"/>
            <p:cNvSpPr/>
            <p:nvPr/>
          </p:nvSpPr>
          <p:spPr>
            <a:xfrm>
              <a:off x="5005080" y="57884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直接连接符 32818"/>
            <p:cNvSpPr/>
            <p:nvPr/>
          </p:nvSpPr>
          <p:spPr>
            <a:xfrm>
              <a:off x="4786920" y="580644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447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8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450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1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2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453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4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5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2456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60000" fill="hold"/>
                                        <p:tgtEl>
                                          <p:spTgt spid="2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36000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43200000" fill="hold"/>
                                        <p:tgtEl>
                                          <p:spTgt spid="2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9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5" name="对象 8193" descr=""/>
          <p:cNvPicPr/>
          <p:nvPr/>
        </p:nvPicPr>
        <p:blipFill>
          <a:blip r:embed="rId1"/>
          <a:stretch/>
        </p:blipFill>
        <p:spPr>
          <a:xfrm>
            <a:off x="185760" y="404640"/>
            <a:ext cx="4352760" cy="428328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3" descr="CJ3738"/>
          <p:cNvPicPr/>
          <p:nvPr/>
        </p:nvPicPr>
        <p:blipFill>
          <a:blip r:embed="rId2"/>
          <a:stretch/>
        </p:blipFill>
        <p:spPr>
          <a:xfrm>
            <a:off x="7620120" y="5105520"/>
            <a:ext cx="1523880" cy="1752480"/>
          </a:xfrm>
          <a:prstGeom prst="rect">
            <a:avLst/>
          </a:prstGeom>
          <a:ln w="0">
            <a:noFill/>
          </a:ln>
        </p:spPr>
      </p:pic>
      <p:sp>
        <p:nvSpPr>
          <p:cNvPr id="2147" name="Text Box 4"/>
          <p:cNvSpPr/>
          <p:nvPr/>
        </p:nvSpPr>
        <p:spPr>
          <a:xfrm>
            <a:off x="4648320" y="692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钟面上有（    ）个大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    ）个小格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5"/>
          <p:cNvSpPr/>
          <p:nvPr/>
        </p:nvSpPr>
        <p:spPr>
          <a:xfrm>
            <a:off x="4800600" y="1752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大格是（  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6"/>
          <p:cNvSpPr/>
          <p:nvPr/>
        </p:nvSpPr>
        <p:spPr>
          <a:xfrm>
            <a:off x="4800600" y="2971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分针走一小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走一大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7"/>
          <p:cNvSpPr/>
          <p:nvPr/>
        </p:nvSpPr>
        <p:spPr>
          <a:xfrm>
            <a:off x="2057400" y="4876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大格，分针正好走（   ）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AutoShape 8"/>
          <p:cNvSpPr/>
          <p:nvPr/>
        </p:nvSpPr>
        <p:spPr>
          <a:xfrm rot="5400000">
            <a:off x="3009600" y="468648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6707"/>
                </a:lnTo>
                <a:cubicBezTo>
                  <a:pt x="10800" y="7606"/>
                  <a:pt x="16200" y="8504"/>
                  <a:pt x="21600" y="8504"/>
                </a:cubicBezTo>
                <a:cubicBezTo>
                  <a:pt x="16200" y="8504"/>
                  <a:pt x="10800" y="9403"/>
                  <a:pt x="10800" y="103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9"/>
          <p:cNvSpPr/>
          <p:nvPr/>
        </p:nvSpPr>
        <p:spPr>
          <a:xfrm rot="5400000">
            <a:off x="5981400" y="415296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12007"/>
                </a:lnTo>
                <a:cubicBezTo>
                  <a:pt x="10800" y="12906"/>
                  <a:pt x="16200" y="13804"/>
                  <a:pt x="21600" y="13804"/>
                </a:cubicBezTo>
                <a:cubicBezTo>
                  <a:pt x="16200" y="13804"/>
                  <a:pt x="10800" y="14703"/>
                  <a:pt x="10800" y="156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0"/>
          <p:cNvSpPr/>
          <p:nvPr/>
        </p:nvSpPr>
        <p:spPr>
          <a:xfrm>
            <a:off x="2819520" y="5638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1"/>
          <p:cNvSpPr/>
          <p:nvPr/>
        </p:nvSpPr>
        <p:spPr>
          <a:xfrm>
            <a:off x="518148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Group 12"/>
          <p:cNvGrpSpPr/>
          <p:nvPr/>
        </p:nvGrpSpPr>
        <p:grpSpPr>
          <a:xfrm>
            <a:off x="4191120" y="5867280"/>
            <a:ext cx="380880" cy="152280"/>
            <a:chOff x="4191120" y="5867280"/>
            <a:chExt cx="380880" cy="152280"/>
          </a:xfrm>
        </p:grpSpPr>
        <p:sp>
          <p:nvSpPr>
            <p:cNvPr id="2156" name="Line 13"/>
            <p:cNvSpPr/>
            <p:nvPr/>
          </p:nvSpPr>
          <p:spPr>
            <a:xfrm>
              <a:off x="4191120" y="58672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4"/>
            <p:cNvSpPr/>
            <p:nvPr/>
          </p:nvSpPr>
          <p:spPr>
            <a:xfrm>
              <a:off x="4191120" y="6019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8" name="Rectangle 15"/>
          <p:cNvSpPr/>
          <p:nvPr/>
        </p:nvSpPr>
        <p:spPr>
          <a:xfrm>
            <a:off x="6478200" y="6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16"/>
          <p:cNvSpPr/>
          <p:nvPr/>
        </p:nvSpPr>
        <p:spPr>
          <a:xfrm>
            <a:off x="6477120" y="110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17"/>
          <p:cNvSpPr/>
          <p:nvPr/>
        </p:nvSpPr>
        <p:spPr>
          <a:xfrm>
            <a:off x="7393320" y="1752480"/>
            <a:ext cx="5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18"/>
          <p:cNvSpPr/>
          <p:nvPr/>
        </p:nvSpPr>
        <p:spPr>
          <a:xfrm>
            <a:off x="7716600" y="29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19"/>
          <p:cNvSpPr/>
          <p:nvPr/>
        </p:nvSpPr>
        <p:spPr>
          <a:xfrm>
            <a:off x="7773840" y="34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20"/>
          <p:cNvSpPr/>
          <p:nvPr/>
        </p:nvSpPr>
        <p:spPr>
          <a:xfrm>
            <a:off x="655452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矩形 1"/>
          <p:cNvSpPr/>
          <p:nvPr/>
        </p:nvSpPr>
        <p:spPr>
          <a:xfrm>
            <a:off x="5076720" y="0"/>
            <a:ext cx="406728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矩形 21"/>
          <p:cNvSpPr/>
          <p:nvPr/>
        </p:nvSpPr>
        <p:spPr>
          <a:xfrm>
            <a:off x="-33480" y="6453360"/>
            <a:ext cx="765036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TextBox 19"/>
          <p:cNvSpPr/>
          <p:nvPr/>
        </p:nvSpPr>
        <p:spPr>
          <a:xfrm>
            <a:off x="888840" y="517680"/>
            <a:ext cx="825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看谁用的时间最接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1" name="图片 1" descr=""/>
          <p:cNvPicPr/>
          <p:nvPr/>
        </p:nvPicPr>
        <p:blipFill>
          <a:blip r:embed="rId1"/>
          <a:stretch/>
        </p:blipFill>
        <p:spPr>
          <a:xfrm>
            <a:off x="5775480" y="3452760"/>
            <a:ext cx="2571480" cy="278136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9" descr="C:\Users\12556\AppData\Roaming\Seewo\EasiNote5\Temp\6248-24.05.26,20-46-08,7591598\1481aa0e-f793-4ee7-a238-6eef70e85855\Resources\c03dced7724da8b6535aa1e7658817cf.png"/>
          <p:cNvPicPr/>
          <p:nvPr/>
        </p:nvPicPr>
        <p:blipFill>
          <a:blip r:embed="rId2"/>
          <a:stretch/>
        </p:blipFill>
        <p:spPr>
          <a:xfrm>
            <a:off x="339840" y="1359000"/>
            <a:ext cx="3144600" cy="71892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0" descr="C:\Users\12556\AppData\Roaming\Seewo\EasiNote5\Temp\6248-24.05.26,20-46-08,7591598\1481aa0e-f793-4ee7-a238-6eef70e85855\Resources\f8fbdf9791a0da3945f99438e4a12313.png"/>
          <p:cNvPicPr/>
          <p:nvPr/>
        </p:nvPicPr>
        <p:blipFill>
          <a:blip r:embed="rId3"/>
          <a:stretch/>
        </p:blipFill>
        <p:spPr>
          <a:xfrm>
            <a:off x="339840" y="1994040"/>
            <a:ext cx="845316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4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465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6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15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6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18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9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0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21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2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3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2524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60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36000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432000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6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27" name="图片 13" descr="14.png"/>
          <p:cNvPicPr/>
          <p:nvPr/>
        </p:nvPicPr>
        <p:blipFill>
          <a:blip r:embed="rId2"/>
          <a:stretch/>
        </p:blipFill>
        <p:spPr>
          <a:xfrm>
            <a:off x="785880" y="1785960"/>
            <a:ext cx="3541680" cy="395280"/>
          </a:xfrm>
          <a:prstGeom prst="rect">
            <a:avLst/>
          </a:prstGeom>
          <a:ln w="0">
            <a:noFill/>
          </a:ln>
        </p:spPr>
      </p:pic>
      <p:pic>
        <p:nvPicPr>
          <p:cNvPr id="2528" name="图片 4" descr="C:\Users\12556\Documents\WeChat Files\wxid_833aj0flutox22\FileStorage\Temp\abdd0080b59b13622c63249ed1c655c.jpg"/>
          <p:cNvPicPr/>
          <p:nvPr/>
        </p:nvPicPr>
        <p:blipFill>
          <a:blip r:embed="rId3"/>
          <a:stretch/>
        </p:blipFill>
        <p:spPr>
          <a:xfrm>
            <a:off x="684360" y="2535120"/>
            <a:ext cx="777528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23840" y="848880"/>
            <a:ext cx="90201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刘翔在雅典奥运会以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2</a:t>
            </a:r>
            <a:r>
              <a:rPr b="0" lang="zh-CN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秒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91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破当时</a:t>
            </a: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10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米栏世界纪录的成绩夺冠。</a:t>
            </a:r>
            <a:br>
              <a:rPr sz="3600"/>
            </a:b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530" name="Picture 4" descr="刘翔"/>
          <p:cNvPicPr/>
          <p:nvPr/>
        </p:nvPicPr>
        <p:blipFill>
          <a:blip r:embed="rId1"/>
          <a:stretch/>
        </p:blipFill>
        <p:spPr>
          <a:xfrm>
            <a:off x="2003400" y="1695600"/>
            <a:ext cx="5184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32" name="图片 4" descr="16.png"/>
          <p:cNvPicPr/>
          <p:nvPr/>
        </p:nvPicPr>
        <p:blipFill>
          <a:blip r:embed="rId2"/>
          <a:stretch/>
        </p:blipFill>
        <p:spPr>
          <a:xfrm>
            <a:off x="857160" y="1890720"/>
            <a:ext cx="3191040" cy="395280"/>
          </a:xfrm>
          <a:prstGeom prst="rect">
            <a:avLst/>
          </a:prstGeom>
          <a:ln w="0">
            <a:noFill/>
          </a:ln>
        </p:spPr>
      </p:pic>
      <p:pic>
        <p:nvPicPr>
          <p:cNvPr id="2533" name="图片 5" descr="17.png"/>
          <p:cNvPicPr/>
          <p:nvPr/>
        </p:nvPicPr>
        <p:blipFill>
          <a:blip r:embed="rId3"/>
          <a:stretch/>
        </p:blipFill>
        <p:spPr>
          <a:xfrm>
            <a:off x="642960" y="2730600"/>
            <a:ext cx="2406600" cy="1668240"/>
          </a:xfrm>
          <a:prstGeom prst="rect">
            <a:avLst/>
          </a:prstGeom>
          <a:ln w="0">
            <a:noFill/>
          </a:ln>
        </p:spPr>
      </p:pic>
      <p:pic>
        <p:nvPicPr>
          <p:cNvPr id="2534" name="图片 6" descr="18.png"/>
          <p:cNvPicPr/>
          <p:nvPr/>
        </p:nvPicPr>
        <p:blipFill>
          <a:blip r:embed="rId4"/>
          <a:stretch/>
        </p:blipFill>
        <p:spPr>
          <a:xfrm>
            <a:off x="3378240" y="2857680"/>
            <a:ext cx="2336760" cy="1511280"/>
          </a:xfrm>
          <a:prstGeom prst="rect">
            <a:avLst/>
          </a:prstGeom>
          <a:ln w="0">
            <a:noFill/>
          </a:ln>
        </p:spPr>
      </p:pic>
      <p:pic>
        <p:nvPicPr>
          <p:cNvPr id="2535" name="图片 7" descr="19.png"/>
          <p:cNvPicPr/>
          <p:nvPr/>
        </p:nvPicPr>
        <p:blipFill>
          <a:blip r:embed="rId5"/>
          <a:stretch/>
        </p:blipFill>
        <p:spPr>
          <a:xfrm>
            <a:off x="5959440" y="2736720"/>
            <a:ext cx="2755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6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537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9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540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9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90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1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93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4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5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96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7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59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60000" fill="hold"/>
                                        <p:tgtEl>
                                          <p:spTgt spid="2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3600000" fill="hold"/>
                                        <p:tgtEl>
                                          <p:spTgt spid="2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43200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1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602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4" name="组合 4"/>
          <p:cNvGrpSpPr/>
          <p:nvPr/>
        </p:nvGrpSpPr>
        <p:grpSpPr>
          <a:xfrm>
            <a:off x="4616280" y="2155680"/>
            <a:ext cx="812880" cy="696600"/>
            <a:chOff x="4616280" y="2155680"/>
            <a:chExt cx="812880" cy="696600"/>
          </a:xfrm>
        </p:grpSpPr>
        <p:sp>
          <p:nvSpPr>
            <p:cNvPr id="2605" name="矩形 2"/>
            <p:cNvSpPr/>
            <p:nvPr/>
          </p:nvSpPr>
          <p:spPr>
            <a:xfrm>
              <a:off x="4616280" y="2155680"/>
              <a:ext cx="72252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文本框 3"/>
            <p:cNvSpPr/>
            <p:nvPr/>
          </p:nvSpPr>
          <p:spPr>
            <a:xfrm>
              <a:off x="4616280" y="226800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组合 7"/>
          <p:cNvGrpSpPr/>
          <p:nvPr/>
        </p:nvGrpSpPr>
        <p:grpSpPr>
          <a:xfrm>
            <a:off x="627120" y="3076560"/>
            <a:ext cx="958680" cy="696600"/>
            <a:chOff x="627120" y="3076560"/>
            <a:chExt cx="958680" cy="696600"/>
          </a:xfrm>
        </p:grpSpPr>
        <p:sp>
          <p:nvSpPr>
            <p:cNvPr id="2608" name="矩形 8"/>
            <p:cNvSpPr/>
            <p:nvPr/>
          </p:nvSpPr>
          <p:spPr>
            <a:xfrm>
              <a:off x="627120" y="3076560"/>
              <a:ext cx="72180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文本框 9"/>
            <p:cNvSpPr/>
            <p:nvPr/>
          </p:nvSpPr>
          <p:spPr>
            <a:xfrm>
              <a:off x="773640" y="3188880"/>
              <a:ext cx="8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0" name="组合 10"/>
          <p:cNvGrpSpPr/>
          <p:nvPr/>
        </p:nvGrpSpPr>
        <p:grpSpPr>
          <a:xfrm>
            <a:off x="4249800" y="3132000"/>
            <a:ext cx="852480" cy="581400"/>
            <a:chOff x="4249800" y="3132000"/>
            <a:chExt cx="852480" cy="581400"/>
          </a:xfrm>
        </p:grpSpPr>
        <p:sp>
          <p:nvSpPr>
            <p:cNvPr id="2611" name="矩形 11"/>
            <p:cNvSpPr/>
            <p:nvPr/>
          </p:nvSpPr>
          <p:spPr>
            <a:xfrm>
              <a:off x="4249800" y="3208680"/>
              <a:ext cx="722880" cy="43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文本框 12"/>
            <p:cNvSpPr/>
            <p:nvPr/>
          </p:nvSpPr>
          <p:spPr>
            <a:xfrm>
              <a:off x="4320360" y="3132000"/>
              <a:ext cx="78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3" name="组合 16"/>
          <p:cNvGrpSpPr/>
          <p:nvPr/>
        </p:nvGrpSpPr>
        <p:grpSpPr>
          <a:xfrm>
            <a:off x="4249800" y="3681360"/>
            <a:ext cx="722160" cy="520560"/>
            <a:chOff x="4249800" y="3681360"/>
            <a:chExt cx="722160" cy="520560"/>
          </a:xfrm>
        </p:grpSpPr>
        <p:sp>
          <p:nvSpPr>
            <p:cNvPr id="2614" name="矩形 5"/>
            <p:cNvSpPr/>
            <p:nvPr/>
          </p:nvSpPr>
          <p:spPr>
            <a:xfrm>
              <a:off x="4249800" y="3773520"/>
              <a:ext cx="722160" cy="3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文本框 6"/>
            <p:cNvSpPr/>
            <p:nvPr/>
          </p:nvSpPr>
          <p:spPr>
            <a:xfrm>
              <a:off x="4320000" y="3681360"/>
              <a:ext cx="65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6" name="组合 18"/>
          <p:cNvGrpSpPr/>
          <p:nvPr/>
        </p:nvGrpSpPr>
        <p:grpSpPr>
          <a:xfrm>
            <a:off x="7089840" y="3635280"/>
            <a:ext cx="722160" cy="696960"/>
            <a:chOff x="7089840" y="3635280"/>
            <a:chExt cx="722160" cy="696960"/>
          </a:xfrm>
        </p:grpSpPr>
        <p:sp>
          <p:nvSpPr>
            <p:cNvPr id="2617" name="矩形 19"/>
            <p:cNvSpPr/>
            <p:nvPr/>
          </p:nvSpPr>
          <p:spPr>
            <a:xfrm>
              <a:off x="7089840" y="3635280"/>
              <a:ext cx="72216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文本框 20"/>
            <p:cNvSpPr/>
            <p:nvPr/>
          </p:nvSpPr>
          <p:spPr>
            <a:xfrm>
              <a:off x="7089840" y="374760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9" name="组合 17"/>
          <p:cNvGrpSpPr/>
          <p:nvPr/>
        </p:nvGrpSpPr>
        <p:grpSpPr>
          <a:xfrm>
            <a:off x="3290760" y="3990960"/>
            <a:ext cx="722520" cy="696960"/>
            <a:chOff x="3290760" y="3990960"/>
            <a:chExt cx="722520" cy="696960"/>
          </a:xfrm>
        </p:grpSpPr>
        <p:sp>
          <p:nvSpPr>
            <p:cNvPr id="2620" name="矩形 21"/>
            <p:cNvSpPr/>
            <p:nvPr/>
          </p:nvSpPr>
          <p:spPr>
            <a:xfrm>
              <a:off x="3290760" y="3990960"/>
              <a:ext cx="72252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文本框 22"/>
            <p:cNvSpPr/>
            <p:nvPr/>
          </p:nvSpPr>
          <p:spPr>
            <a:xfrm>
              <a:off x="3290760" y="410328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6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6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6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9" name="Text Box 29" descr=""/>
          <p:cNvPicPr/>
          <p:nvPr/>
        </p:nvPicPr>
        <p:blipFill>
          <a:blip r:embed="rId3"/>
          <a:stretch/>
        </p:blipFill>
        <p:spPr>
          <a:xfrm rot="206400">
            <a:off x="87480" y="1362240"/>
            <a:ext cx="7778520" cy="3171600"/>
          </a:xfrm>
          <a:prstGeom prst="rect">
            <a:avLst/>
          </a:prstGeom>
          <a:ln w="0">
            <a:noFill/>
          </a:ln>
        </p:spPr>
      </p:pic>
      <p:pic>
        <p:nvPicPr>
          <p:cNvPr id="2650" name="图片 1" descr=""/>
          <p:cNvPicPr/>
          <p:nvPr/>
        </p:nvPicPr>
        <p:blipFill>
          <a:blip r:embed="rId4"/>
          <a:stretch/>
        </p:blipFill>
        <p:spPr>
          <a:xfrm>
            <a:off x="2340000" y="3986280"/>
            <a:ext cx="45799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6" name="Picture 4" descr=""/>
          <p:cNvPicPr/>
          <p:nvPr/>
        </p:nvPicPr>
        <p:blipFill>
          <a:blip r:embed="rId1"/>
          <a:stretch/>
        </p:blipFill>
        <p:spPr>
          <a:xfrm>
            <a:off x="701640" y="746280"/>
            <a:ext cx="39816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2167" name="Group 5"/>
          <p:cNvGrpSpPr/>
          <p:nvPr/>
        </p:nvGrpSpPr>
        <p:grpSpPr>
          <a:xfrm>
            <a:off x="2413800" y="2562120"/>
            <a:ext cx="1163520" cy="994320"/>
            <a:chOff x="2413800" y="2562120"/>
            <a:chExt cx="1163520" cy="994320"/>
          </a:xfrm>
        </p:grpSpPr>
        <p:sp>
          <p:nvSpPr>
            <p:cNvPr id="2168" name="Oval 6"/>
            <p:cNvSpPr/>
            <p:nvPr/>
          </p:nvSpPr>
          <p:spPr>
            <a:xfrm rot="13179000">
              <a:off x="2413080" y="2645640"/>
              <a:ext cx="301680" cy="1072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9" name="Group 7"/>
            <p:cNvGrpSpPr/>
            <p:nvPr/>
          </p:nvGrpSpPr>
          <p:grpSpPr>
            <a:xfrm>
              <a:off x="2556000" y="2675520"/>
              <a:ext cx="1021320" cy="880920"/>
              <a:chOff x="2556000" y="2675520"/>
              <a:chExt cx="1021320" cy="880920"/>
            </a:xfrm>
          </p:grpSpPr>
          <p:sp>
            <p:nvSpPr>
              <p:cNvPr id="2170" name="AutoShape 8"/>
              <p:cNvSpPr/>
              <p:nvPr/>
            </p:nvSpPr>
            <p:spPr>
              <a:xfrm rot="13179000">
                <a:off x="2462400" y="3044160"/>
                <a:ext cx="1208160" cy="142920"/>
              </a:xfrm>
              <a:prstGeom prst="leftArrow">
                <a:avLst>
                  <a:gd name="adj1" fmla="val 50000"/>
                  <a:gd name="adj2" fmla="val 211335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9"/>
              <p:cNvSpPr/>
              <p:nvPr/>
            </p:nvSpPr>
            <p:spPr>
              <a:xfrm rot="13179000">
                <a:off x="2543400" y="2855520"/>
                <a:ext cx="503640" cy="7128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2" name="Group 10"/>
          <p:cNvGrpSpPr/>
          <p:nvPr/>
        </p:nvGrpSpPr>
        <p:grpSpPr>
          <a:xfrm>
            <a:off x="1472760" y="2514240"/>
            <a:ext cx="1168200" cy="608760"/>
            <a:chOff x="1472760" y="2514240"/>
            <a:chExt cx="1168200" cy="608760"/>
          </a:xfrm>
        </p:grpSpPr>
        <p:sp>
          <p:nvSpPr>
            <p:cNvPr id="2173" name="Oval 11"/>
            <p:cNvSpPr/>
            <p:nvPr/>
          </p:nvSpPr>
          <p:spPr>
            <a:xfrm rot="20458800">
              <a:off x="2366640" y="2548440"/>
              <a:ext cx="246600" cy="2116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4" name="Group 12"/>
            <p:cNvGrpSpPr/>
            <p:nvPr/>
          </p:nvGrpSpPr>
          <p:grpSpPr>
            <a:xfrm>
              <a:off x="1472760" y="2534040"/>
              <a:ext cx="1025640" cy="588960"/>
              <a:chOff x="1472760" y="2534040"/>
              <a:chExt cx="1025640" cy="588960"/>
            </a:xfrm>
          </p:grpSpPr>
          <p:sp>
            <p:nvSpPr>
              <p:cNvPr id="2175" name="AutoShape 13"/>
              <p:cNvSpPr/>
              <p:nvPr/>
            </p:nvSpPr>
            <p:spPr>
              <a:xfrm rot="20458800">
                <a:off x="1491840" y="2687040"/>
                <a:ext cx="987480" cy="282600"/>
              </a:xfrm>
              <a:prstGeom prst="leftArrow">
                <a:avLst>
                  <a:gd name="adj1" fmla="val 50000"/>
                  <a:gd name="adj2" fmla="val 87357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4"/>
              <p:cNvSpPr/>
              <p:nvPr/>
            </p:nvSpPr>
            <p:spPr>
              <a:xfrm rot="20458800">
                <a:off x="2051640" y="2664000"/>
                <a:ext cx="411480" cy="14076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7" name="Group 18"/>
          <p:cNvGrpSpPr/>
          <p:nvPr/>
        </p:nvGrpSpPr>
        <p:grpSpPr>
          <a:xfrm>
            <a:off x="2503440" y="1035000"/>
            <a:ext cx="69840" cy="1657080"/>
            <a:chOff x="2503440" y="1035000"/>
            <a:chExt cx="69840" cy="1657080"/>
          </a:xfrm>
        </p:grpSpPr>
        <p:sp>
          <p:nvSpPr>
            <p:cNvPr id="2178" name="AutoShape 15"/>
            <p:cNvSpPr/>
            <p:nvPr/>
          </p:nvSpPr>
          <p:spPr>
            <a:xfrm>
              <a:off x="2503440" y="1035000"/>
              <a:ext cx="69840" cy="1441440"/>
            </a:xfrm>
            <a:prstGeom prst="upArrow">
              <a:avLst>
                <a:gd name="adj1" fmla="val 50000"/>
                <a:gd name="adj2" fmla="val 515693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Oval 17"/>
            <p:cNvSpPr/>
            <p:nvPr/>
          </p:nvSpPr>
          <p:spPr>
            <a:xfrm>
              <a:off x="2513160" y="2331360"/>
              <a:ext cx="49680" cy="36072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Group 21"/>
          <p:cNvGrpSpPr/>
          <p:nvPr/>
        </p:nvGrpSpPr>
        <p:grpSpPr>
          <a:xfrm>
            <a:off x="2644920" y="1467000"/>
            <a:ext cx="2827080" cy="459720"/>
            <a:chOff x="2644920" y="1467000"/>
            <a:chExt cx="2827080" cy="459720"/>
          </a:xfrm>
        </p:grpSpPr>
        <p:sp>
          <p:nvSpPr>
            <p:cNvPr id="2181" name="Line 22"/>
            <p:cNvSpPr/>
            <p:nvPr/>
          </p:nvSpPr>
          <p:spPr>
            <a:xfrm>
              <a:off x="2644920" y="1830600"/>
              <a:ext cx="1639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Text Box 23"/>
            <p:cNvSpPr/>
            <p:nvPr/>
          </p:nvSpPr>
          <p:spPr>
            <a:xfrm>
              <a:off x="4361400" y="1467000"/>
              <a:ext cx="111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秒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Group 24"/>
          <p:cNvGrpSpPr/>
          <p:nvPr/>
        </p:nvGrpSpPr>
        <p:grpSpPr>
          <a:xfrm>
            <a:off x="2502000" y="1108080"/>
            <a:ext cx="69840" cy="1653840"/>
            <a:chOff x="2502000" y="1108080"/>
            <a:chExt cx="69840" cy="1653840"/>
          </a:xfrm>
        </p:grpSpPr>
        <p:sp>
          <p:nvSpPr>
            <p:cNvPr id="2184" name="AutoShape 25"/>
            <p:cNvSpPr/>
            <p:nvPr/>
          </p:nvSpPr>
          <p:spPr>
            <a:xfrm>
              <a:off x="2502000" y="1108080"/>
              <a:ext cx="69840" cy="1438560"/>
            </a:xfrm>
            <a:prstGeom prst="upArrow">
              <a:avLst>
                <a:gd name="adj1" fmla="val 50000"/>
                <a:gd name="adj2" fmla="val 514662"/>
              </a:avLst>
            </a:prstGeom>
            <a:solidFill>
              <a:srgbClr val="ffff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Oval 26"/>
            <p:cNvSpPr/>
            <p:nvPr/>
          </p:nvSpPr>
          <p:spPr>
            <a:xfrm>
              <a:off x="2511720" y="2401920"/>
              <a:ext cx="49680" cy="360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Group 27"/>
          <p:cNvGrpSpPr/>
          <p:nvPr/>
        </p:nvGrpSpPr>
        <p:grpSpPr>
          <a:xfrm>
            <a:off x="2502000" y="1108080"/>
            <a:ext cx="71280" cy="1653840"/>
            <a:chOff x="2502000" y="1108080"/>
            <a:chExt cx="71280" cy="1653840"/>
          </a:xfrm>
        </p:grpSpPr>
        <p:sp>
          <p:nvSpPr>
            <p:cNvPr id="2187" name="AutoShape 28"/>
            <p:cNvSpPr/>
            <p:nvPr/>
          </p:nvSpPr>
          <p:spPr>
            <a:xfrm>
              <a:off x="2502000" y="1108080"/>
              <a:ext cx="71280" cy="1438560"/>
            </a:xfrm>
            <a:prstGeom prst="upArrow">
              <a:avLst>
                <a:gd name="adj1" fmla="val 50000"/>
                <a:gd name="adj2" fmla="val 504265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29"/>
            <p:cNvSpPr/>
            <p:nvPr/>
          </p:nvSpPr>
          <p:spPr>
            <a:xfrm>
              <a:off x="2512080" y="2401920"/>
              <a:ext cx="50760" cy="36000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Group 55"/>
          <p:cNvGrpSpPr/>
          <p:nvPr/>
        </p:nvGrpSpPr>
        <p:grpSpPr>
          <a:xfrm>
            <a:off x="4683240" y="1581120"/>
            <a:ext cx="4890600" cy="3212640"/>
            <a:chOff x="4683240" y="1581120"/>
            <a:chExt cx="4890600" cy="3212640"/>
          </a:xfrm>
        </p:grpSpPr>
        <p:pic>
          <p:nvPicPr>
            <p:cNvPr id="2190" name="Picture 67" descr="002"/>
            <p:cNvPicPr/>
            <p:nvPr/>
          </p:nvPicPr>
          <p:blipFill>
            <a:blip r:embed="rId2"/>
            <a:stretch/>
          </p:blipFill>
          <p:spPr>
            <a:xfrm flipH="1">
              <a:off x="4683240" y="1581120"/>
              <a:ext cx="4461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1" name="Rectangle 65"/>
            <p:cNvSpPr/>
            <p:nvPr/>
          </p:nvSpPr>
          <p:spPr>
            <a:xfrm>
              <a:off x="4683240" y="1909800"/>
              <a:ext cx="48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钟表上除了有时针，分针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还有秒针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2" name="Picture 66" descr="小精灵-04"/>
            <p:cNvPicPr/>
            <p:nvPr/>
          </p:nvPicPr>
          <p:blipFill>
            <a:blip r:embed="rId3"/>
            <a:stretch/>
          </p:blipFill>
          <p:spPr>
            <a:xfrm>
              <a:off x="7298640" y="2881800"/>
              <a:ext cx="1331640" cy="191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Picture 53" descr="u=1269048324,2278151910&amp;fm=23&amp;gp=0"/>
          <p:cNvPicPr/>
          <p:nvPr/>
        </p:nvPicPr>
        <p:blipFill>
          <a:blip r:embed="rId4"/>
          <a:stretch/>
        </p:blipFill>
        <p:spPr>
          <a:xfrm>
            <a:off x="449280" y="127080"/>
            <a:ext cx="817560" cy="1050840"/>
          </a:xfrm>
          <a:prstGeom prst="rect">
            <a:avLst/>
          </a:prstGeom>
          <a:ln w="0">
            <a:noFill/>
          </a:ln>
        </p:spPr>
      </p:pic>
      <p:sp>
        <p:nvSpPr>
          <p:cNvPr id="2194" name="WordArt 54"/>
          <p:cNvSpPr txBox="1"/>
          <p:nvPr/>
        </p:nvSpPr>
        <p:spPr>
          <a:xfrm>
            <a:off x="1278000" y="314280"/>
            <a:ext cx="13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5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196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7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246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7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249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1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252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3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WordArt 54"/>
          <p:cNvSpPr txBox="1"/>
          <p:nvPr/>
        </p:nvSpPr>
        <p:spPr>
          <a:xfrm>
            <a:off x="204840" y="385920"/>
            <a:ext cx="191772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257" name="Group 45"/>
          <p:cNvGrpSpPr/>
          <p:nvPr/>
        </p:nvGrpSpPr>
        <p:grpSpPr>
          <a:xfrm>
            <a:off x="-198360" y="4368960"/>
            <a:ext cx="8057160" cy="1694880"/>
            <a:chOff x="-198360" y="4368960"/>
            <a:chExt cx="8057160" cy="1694880"/>
          </a:xfrm>
        </p:grpSpPr>
        <p:pic>
          <p:nvPicPr>
            <p:cNvPr id="2258" name="Picture 55" descr="小精灵-013"/>
            <p:cNvPicPr/>
            <p:nvPr/>
          </p:nvPicPr>
          <p:blipFill>
            <a:blip r:embed="rId5"/>
            <a:stretch/>
          </p:blipFill>
          <p:spPr>
            <a:xfrm>
              <a:off x="-198360" y="4368960"/>
              <a:ext cx="2763720" cy="16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9" name="Group 44"/>
            <p:cNvGrpSpPr/>
            <p:nvPr/>
          </p:nvGrpSpPr>
          <p:grpSpPr>
            <a:xfrm>
              <a:off x="2373120" y="4422960"/>
              <a:ext cx="5485680" cy="1097280"/>
              <a:chOff x="2373120" y="4422960"/>
              <a:chExt cx="5485680" cy="1097280"/>
            </a:xfrm>
          </p:grpSpPr>
          <p:pic>
            <p:nvPicPr>
              <p:cNvPr id="2260" name="Picture 56" descr="015"/>
              <p:cNvPicPr/>
              <p:nvPr/>
            </p:nvPicPr>
            <p:blipFill>
              <a:blip r:embed="rId6"/>
              <a:stretch/>
            </p:blipFill>
            <p:spPr>
              <a:xfrm>
                <a:off x="2373120" y="4422960"/>
                <a:ext cx="548568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1" name="Rectangle 65"/>
              <p:cNvSpPr/>
              <p:nvPr/>
            </p:nvSpPr>
            <p:spPr>
              <a:xfrm>
                <a:off x="3065400" y="4573080"/>
                <a:ext cx="4198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秒针最细最长，走得最快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strips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5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25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600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36000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432000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圆角矩形标注 62"/>
          <p:cNvSpPr/>
          <p:nvPr/>
        </p:nvSpPr>
        <p:spPr>
          <a:xfrm>
            <a:off x="5276880" y="3222720"/>
            <a:ext cx="3254400" cy="4903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小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3" name="图片 11" descr=""/>
          <p:cNvPicPr/>
          <p:nvPr/>
        </p:nvPicPr>
        <p:blipFill>
          <a:blip r:embed="rId1"/>
          <a:stretch/>
        </p:blipFill>
        <p:spPr>
          <a:xfrm>
            <a:off x="2411280" y="2422440"/>
            <a:ext cx="2521080" cy="2519280"/>
          </a:xfrm>
          <a:prstGeom prst="rect">
            <a:avLst/>
          </a:prstGeom>
          <a:ln w="0">
            <a:noFill/>
          </a:ln>
        </p:spPr>
      </p:pic>
      <p:sp>
        <p:nvSpPr>
          <p:cNvPr id="2264" name="菱形 24"/>
          <p:cNvSpPr/>
          <p:nvPr/>
        </p:nvSpPr>
        <p:spPr>
          <a:xfrm rot="5400000">
            <a:off x="3343320" y="346392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饼形 25"/>
          <p:cNvSpPr/>
          <p:nvPr/>
        </p:nvSpPr>
        <p:spPr>
          <a:xfrm rot="16200000">
            <a:off x="2504160" y="2527920"/>
            <a:ext cx="2287440" cy="2282760"/>
          </a:xfrm>
          <a:custGeom>
            <a:avLst/>
            <a:gdLst/>
            <a:ahLst/>
            <a:rect l="l" t="t" r="r" b="b"/>
            <a:pathLst>
              <a:path w="2287587" h="2282825">
                <a:moveTo>
                  <a:pt x="2287493" y="1126805"/>
                </a:moveTo>
                <a:cubicBezTo>
                  <a:pt x="2287462" y="1117058"/>
                  <a:pt x="2287493" y="1121928"/>
                  <a:pt x="2287493" y="1126805"/>
                </a:cubicBezTo>
                <a:cubicBezTo>
                  <a:pt x="2287493" y="1174488"/>
                  <a:pt x="2284563" y="1221487"/>
                  <a:pt x="2278917" y="1267281"/>
                </a:cubicBezTo>
                <a:lnTo>
                  <a:pt x="1143793" y="1141412"/>
                </a:lnTo>
                <a:close/>
              </a:path>
            </a:pathLst>
          </a:cu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组合 29"/>
          <p:cNvGrpSpPr/>
          <p:nvPr/>
        </p:nvGrpSpPr>
        <p:grpSpPr>
          <a:xfrm>
            <a:off x="3649680" y="2779560"/>
            <a:ext cx="11160" cy="1884600"/>
            <a:chOff x="3649680" y="2779560"/>
            <a:chExt cx="11160" cy="1884600"/>
          </a:xfrm>
        </p:grpSpPr>
        <p:sp>
          <p:nvSpPr>
            <p:cNvPr id="2267" name="矩形 30"/>
            <p:cNvSpPr/>
            <p:nvPr/>
          </p:nvSpPr>
          <p:spPr>
            <a:xfrm>
              <a:off x="3649680" y="277956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矩形 31"/>
            <p:cNvSpPr/>
            <p:nvPr/>
          </p:nvSpPr>
          <p:spPr>
            <a:xfrm>
              <a:off x="3649680" y="372888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9" name="圆角矩形标注 33"/>
          <p:cNvSpPr/>
          <p:nvPr/>
        </p:nvSpPr>
        <p:spPr>
          <a:xfrm>
            <a:off x="4572000" y="2182680"/>
            <a:ext cx="1008000" cy="358920"/>
          </a:xfrm>
          <a:prstGeom prst="wedgeRoundRectCallout">
            <a:avLst>
              <a:gd name="adj1" fmla="val -130435"/>
              <a:gd name="adj2" fmla="val 139222"/>
              <a:gd name="adj3" fmla="val 16667"/>
            </a:avLst>
          </a:prstGeom>
          <a:noFill/>
          <a:ln w="12600">
            <a:solidFill>
              <a:srgbClr val="8a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Box 19"/>
          <p:cNvSpPr/>
          <p:nvPr/>
        </p:nvSpPr>
        <p:spPr>
          <a:xfrm>
            <a:off x="824040" y="1409760"/>
            <a:ext cx="18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圆角矩形标注 39"/>
          <p:cNvSpPr/>
          <p:nvPr/>
        </p:nvSpPr>
        <p:spPr>
          <a:xfrm>
            <a:off x="5262480" y="4073400"/>
            <a:ext cx="3440160" cy="4921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2" name="组合 11"/>
          <p:cNvGrpSpPr/>
          <p:nvPr/>
        </p:nvGrpSpPr>
        <p:grpSpPr>
          <a:xfrm>
            <a:off x="3648240" y="2774880"/>
            <a:ext cx="10800" cy="1884600"/>
            <a:chOff x="3648240" y="2774880"/>
            <a:chExt cx="10800" cy="1884600"/>
          </a:xfrm>
        </p:grpSpPr>
        <p:sp>
          <p:nvSpPr>
            <p:cNvPr id="2273" name="矩形 12"/>
            <p:cNvSpPr/>
            <p:nvPr/>
          </p:nvSpPr>
          <p:spPr>
            <a:xfrm>
              <a:off x="3648240" y="2774880"/>
              <a:ext cx="1080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矩形 13"/>
            <p:cNvSpPr/>
            <p:nvPr/>
          </p:nvSpPr>
          <p:spPr>
            <a:xfrm>
              <a:off x="3648240" y="3724200"/>
              <a:ext cx="108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5" name="圆角矩形标注 1"/>
          <p:cNvSpPr/>
          <p:nvPr/>
        </p:nvSpPr>
        <p:spPr>
          <a:xfrm>
            <a:off x="5327640" y="4751280"/>
            <a:ext cx="3254400" cy="49068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29" dur="1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">
                                      <p:cBhvr>
                                        <p:cTn id="148" dur="2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圆角矩形标注 64"/>
          <p:cNvSpPr/>
          <p:nvPr/>
        </p:nvSpPr>
        <p:spPr>
          <a:xfrm>
            <a:off x="5389560" y="4156200"/>
            <a:ext cx="2825640" cy="492120"/>
          </a:xfrm>
          <a:prstGeom prst="wedgeRoundRectCallout">
            <a:avLst>
              <a:gd name="adj1" fmla="val -58162"/>
              <a:gd name="adj2" fmla="val 3796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7" name="图片 11" descr=""/>
          <p:cNvPicPr/>
          <p:nvPr/>
        </p:nvPicPr>
        <p:blipFill>
          <a:blip r:embed="rId1"/>
          <a:stretch/>
        </p:blipFill>
        <p:spPr>
          <a:xfrm>
            <a:off x="1859040" y="2425680"/>
            <a:ext cx="2520720" cy="2519280"/>
          </a:xfrm>
          <a:prstGeom prst="rect">
            <a:avLst/>
          </a:prstGeom>
          <a:ln w="0">
            <a:noFill/>
          </a:ln>
        </p:spPr>
      </p:pic>
      <p:sp>
        <p:nvSpPr>
          <p:cNvPr id="2278" name="菱形 24"/>
          <p:cNvSpPr/>
          <p:nvPr/>
        </p:nvSpPr>
        <p:spPr>
          <a:xfrm rot="5400000">
            <a:off x="2813040" y="346716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9" name="组合 26"/>
          <p:cNvGrpSpPr/>
          <p:nvPr/>
        </p:nvGrpSpPr>
        <p:grpSpPr>
          <a:xfrm>
            <a:off x="3094200" y="2954160"/>
            <a:ext cx="55440" cy="1687680"/>
            <a:chOff x="3094200" y="2954160"/>
            <a:chExt cx="55440" cy="1687680"/>
          </a:xfrm>
        </p:grpSpPr>
        <p:sp>
          <p:nvSpPr>
            <p:cNvPr id="2280" name="菱形 27"/>
            <p:cNvSpPr/>
            <p:nvPr/>
          </p:nvSpPr>
          <p:spPr>
            <a:xfrm flipH="1">
              <a:off x="3094200" y="2954160"/>
              <a:ext cx="55440" cy="766800"/>
            </a:xfrm>
            <a:prstGeom prst="diamond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菱形 28"/>
            <p:cNvSpPr/>
            <p:nvPr/>
          </p:nvSpPr>
          <p:spPr>
            <a:xfrm flipH="1">
              <a:off x="3094200" y="3738600"/>
              <a:ext cx="55440" cy="903240"/>
            </a:xfrm>
            <a:prstGeom prst="diamond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组合 34"/>
          <p:cNvGrpSpPr/>
          <p:nvPr/>
        </p:nvGrpSpPr>
        <p:grpSpPr>
          <a:xfrm>
            <a:off x="3117960" y="2774880"/>
            <a:ext cx="11160" cy="1884600"/>
            <a:chOff x="3117960" y="2774880"/>
            <a:chExt cx="11160" cy="1884600"/>
          </a:xfrm>
        </p:grpSpPr>
        <p:sp>
          <p:nvSpPr>
            <p:cNvPr id="2283" name="矩形 35"/>
            <p:cNvSpPr/>
            <p:nvPr/>
          </p:nvSpPr>
          <p:spPr>
            <a:xfrm>
              <a:off x="3117960" y="277488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矩形 36"/>
            <p:cNvSpPr/>
            <p:nvPr/>
          </p:nvSpPr>
          <p:spPr>
            <a:xfrm>
              <a:off x="3117960" y="372420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5" name="圆角矩形标注 32"/>
          <p:cNvSpPr/>
          <p:nvPr/>
        </p:nvSpPr>
        <p:spPr>
          <a:xfrm>
            <a:off x="4867200" y="3363840"/>
            <a:ext cx="4491000" cy="492120"/>
          </a:xfrm>
          <a:prstGeom prst="wedgeRoundRectCallout">
            <a:avLst>
              <a:gd name="adj1" fmla="val -58162"/>
              <a:gd name="adj2" fmla="val 50268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分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Box 25"/>
          <p:cNvSpPr/>
          <p:nvPr/>
        </p:nvSpPr>
        <p:spPr>
          <a:xfrm>
            <a:off x="755640" y="1484280"/>
            <a:ext cx="15843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684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与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70" dur="2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288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9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338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9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341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344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5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6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234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60000" fill="hold"/>
                                        <p:tgtEl>
                                          <p:spTgt spid="2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36000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432000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矩形 29697"/>
          <p:cNvSpPr/>
          <p:nvPr/>
        </p:nvSpPr>
        <p:spPr>
          <a:xfrm>
            <a:off x="2922480" y="126828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秒钟能做些什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矩形 29698"/>
          <p:cNvSpPr/>
          <p:nvPr/>
        </p:nvSpPr>
        <p:spPr>
          <a:xfrm>
            <a:off x="1547640" y="1989000"/>
            <a:ext cx="71089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飞机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5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火车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喷气式飞机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卫星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9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有的电脑          每秒可以完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万亿次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1" name="内容占位符 29699" descr="si"/>
          <p:cNvPicPr/>
          <p:nvPr/>
        </p:nvPicPr>
        <p:blipFill>
          <a:blip r:embed="rId1"/>
          <a:stretch/>
        </p:blipFill>
        <p:spPr>
          <a:xfrm>
            <a:off x="8058240" y="404640"/>
            <a:ext cx="1085760" cy="1090800"/>
          </a:xfrm>
          <a:prstGeom prst="rect">
            <a:avLst/>
          </a:prstGeom>
          <a:ln w="0">
            <a:noFill/>
          </a:ln>
        </p:spPr>
      </p:pic>
      <p:pic>
        <p:nvPicPr>
          <p:cNvPr id="2352" name="内容占位符 29700" descr="slide0001_image005"/>
          <p:cNvPicPr/>
          <p:nvPr/>
        </p:nvPicPr>
        <p:blipFill>
          <a:blip r:embed="rId2"/>
          <a:stretch/>
        </p:blipFill>
        <p:spPr>
          <a:xfrm>
            <a:off x="6842160" y="5157720"/>
            <a:ext cx="230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文本框 36871"/>
          <p:cNvSpPr/>
          <p:nvPr/>
        </p:nvSpPr>
        <p:spPr>
          <a:xfrm>
            <a:off x="395280" y="2421000"/>
            <a:ext cx="85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铅笔厂可生产铅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支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银行点钞机可以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张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人民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核潜艇水下航行可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计算机计算量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不停地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年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4" name="组合 36872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55" name="椭圆 36873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文本框 36874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6-05T15:18:49Z</dcterms:created>
  <dc:creator/>
  <dc:description/>
  <dc:language>en-US</dc:language>
  <cp:lastModifiedBy>踢飞了我的靴子</cp:lastModifiedBy>
  <dcterms:modified xsi:type="dcterms:W3CDTF">2024-06-06T00:32:38Z</dcterms:modified>
  <cp:revision>29</cp:revision>
  <dc:subject/>
  <dc:title>一分有多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344C288E2E2402591AB05412042C39C_12</vt:lpwstr>
  </property>
  <property fmtid="{D5CDD505-2E9C-101B-9397-08002B2CF9AE}" pid="3" name="KSOProductBuildVer">
    <vt:lpwstr>2052-12.1.0.16929</vt:lpwstr>
  </property>
</Properties>
</file>